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9.jpeg" ContentType="image/jpeg"/>
  <Override PartName="/ppt/media/image11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7C52-3864-46DA-8E4A-6C8A2A738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02840"/>
            <a:ext cx="8209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1547-351B-4F1E-96FC-C7FD3CFC3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080" y="4002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93F2-C501-4097-B43B-E9CF92F3C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02840"/>
            <a:ext cx="264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440" y="4002840"/>
            <a:ext cx="264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4002840"/>
            <a:ext cx="26431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91CC6-9F82-4AB0-B7EC-30D03D4494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9ACF-87C3-49C9-8715-A23C371FF1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7482F-6CCC-413A-9C04-FD75A633F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2279-5B9C-4703-8EC4-B78CDE61D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1AF1-12C3-47A8-BC54-96EB15075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9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9D5A-C40F-4FE9-9776-CA5DC48E5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138E-2AB8-4B29-BB75-44234BFA3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080" y="4002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33A2-1652-4323-8BEA-6CBB5982B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8209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2DF3-DBCC-48E6-8F81-A4D01900A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9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328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132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77133-2628-46E5-B719-01B55B3EAC15}" type="slidenum">
              <a:rPr b="0" lang="es-E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557280" y="2511360"/>
            <a:ext cx="7392960" cy="44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PRACTICA ORGANIZACIONAL REQUERIDA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VENTOS ADVERSOS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OSPITAL GENERAL PUYO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VIEMBRE  2014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573120" y="898560"/>
            <a:ext cx="71913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ES CONTRIBUYENTES PARA UN EVENTO ADVERSO EN SAL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derazgo:  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ltura de la organizació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respecto a la seguridad­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4535640" y="2016000"/>
            <a:ext cx="3456000" cy="38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573120" y="898560"/>
            <a:ext cx="71913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ES CONTRIBUYENTES PARA UN EVENTO ADVERSO EN SAL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pervisión Adecuada: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3959280" y="187164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4824360" y="4103640"/>
            <a:ext cx="3600360" cy="1584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60360" y="4103640"/>
            <a:ext cx="3959280" cy="1584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576360" y="1511280"/>
            <a:ext cx="8064360" cy="1368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60360" y="969840"/>
            <a:ext cx="8062920" cy="65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FINICI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vento Adverso (E.A 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sión o daño no intencional causado al paciente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la intervención asistencial, más no por la patología de base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.A. No Prevenible                                  E.A. Prevenib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sión o daño no intencional               Lesión o daño no intencion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usado al paciente por la inter-             causado al paciente por la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ción asistencial sin error                  intervención asistencial con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rror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Line 5"/>
          <p:cNvSpPr/>
          <p:nvPr/>
        </p:nvSpPr>
        <p:spPr>
          <a:xfrm>
            <a:off x="2376360" y="316872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Line 6"/>
          <p:cNvSpPr/>
          <p:nvPr/>
        </p:nvSpPr>
        <p:spPr>
          <a:xfrm>
            <a:off x="6624720" y="316872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5040360" y="1152360"/>
            <a:ext cx="3672000" cy="427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73120" y="1152360"/>
            <a:ext cx="3962520" cy="427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73120" y="898560"/>
            <a:ext cx="785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vento  Centinela                            Casi Event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Se entiende como tal a un                  Se refiere a un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suceso inesperado que                  situación que podrí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produce la muerte o serias               haber producido u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secuelas físicas ó                      accidente o lesión 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psicológicas                              paciente, pero no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ocurrió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1511280" y="1800360"/>
            <a:ext cx="61200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4000" spc="-1" strike="noStrike">
                <a:solidFill>
                  <a:srgbClr val="0047ff"/>
                </a:solidFill>
                <a:latin typeface="Calibri"/>
              </a:rPr>
              <a:t>EVENTOS ADVERSO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4000" spc="-1" strike="noStrike">
                <a:solidFill>
                  <a:srgbClr val="0047ff"/>
                </a:solidFill>
                <a:latin typeface="Calibri"/>
              </a:rPr>
              <a:t>FRECUENT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295280" y="682560"/>
            <a:ext cx="669636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295280" y="936720"/>
            <a:ext cx="655164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1368360" y="1008000"/>
            <a:ext cx="604836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152360" y="936720"/>
            <a:ext cx="662472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295280" y="936720"/>
            <a:ext cx="6408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"/>
          <p:cNvSpPr/>
          <p:nvPr/>
        </p:nvSpPr>
        <p:spPr>
          <a:xfrm>
            <a:off x="557280" y="2511360"/>
            <a:ext cx="739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000"/>
            </a:b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287280" y="144360"/>
            <a:ext cx="87123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079640" y="1008000"/>
            <a:ext cx="67672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008000" y="1008000"/>
            <a:ext cx="67676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rcRect l="0" t="0" r="0" b="17352"/>
          <a:stretch/>
        </p:blipFill>
        <p:spPr>
          <a:xfrm>
            <a:off x="1081080" y="863640"/>
            <a:ext cx="67676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936720" y="936720"/>
            <a:ext cx="684036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368360" y="2592360"/>
            <a:ext cx="65516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4000" spc="-1" strike="noStrike">
                <a:solidFill>
                  <a:srgbClr val="0047ff"/>
                </a:solidFill>
                <a:latin typeface="Calibri"/>
              </a:rPr>
              <a:t>EVENTOS ADVERSOS POR MEDICAMENTO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079640" y="682560"/>
            <a:ext cx="6767280" cy="52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008000" y="1008000"/>
            <a:ext cx="662472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1152360" y="2087640"/>
            <a:ext cx="691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5400" spc="-1" strike="noStrike">
                <a:solidFill>
                  <a:srgbClr val="0047ff"/>
                </a:solidFill>
                <a:latin typeface="Calibri"/>
              </a:rPr>
              <a:t>PREVENCION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008000" y="1008000"/>
            <a:ext cx="676764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936720" y="1152360"/>
            <a:ext cx="669600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557280" y="2511360"/>
            <a:ext cx="739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000"/>
            </a:b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431640" y="144360"/>
            <a:ext cx="84963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008000" y="863640"/>
            <a:ext cx="6912000" cy="51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008000" y="1079640"/>
            <a:ext cx="705636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1008000" y="936720"/>
            <a:ext cx="691200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588960" y="4751280"/>
            <a:ext cx="7978680" cy="115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4680000" y="2952720"/>
            <a:ext cx="3240000" cy="1295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88960" y="2952720"/>
            <a:ext cx="3154320" cy="1295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04800" y="1368360"/>
            <a:ext cx="7747200" cy="1008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88960" y="946080"/>
            <a:ext cx="7624800" cy="80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4% de los pacientes sufre algun tipo de daño durante su ingreso hospitalari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De los que el 86%                     El 14% acabó e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provocó daño                           muerte para el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temporal                                     pacien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Se estima que entre 44.000 a 98.000 personas mueren cada año en los hospitales como resultado de </a:t>
            </a: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EVENTOS ADVERS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829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"/>
          <p:cNvSpPr/>
          <p:nvPr/>
        </p:nvSpPr>
        <p:spPr>
          <a:xfrm>
            <a:off x="2160720" y="1295280"/>
            <a:ext cx="4824360" cy="4638960"/>
          </a:xfrm>
          <a:prstGeom prst="flowChartExtra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792000" y="682560"/>
            <a:ext cx="80647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Calibri"/>
              </a:rPr>
              <a:t>PIRAMIDE DE HEINRI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es-EC" sz="1800" spc="-1" strike="noStrike">
                <a:solidFill>
                  <a:srgbClr val="000000"/>
                </a:solidFill>
                <a:latin typeface="Calibri"/>
              </a:rPr>
              <a:t>1                    Evento Adverso Grave </a:t>
            </a:r>
            <a:r>
              <a:rPr b="1" lang="es-EC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es-EC" sz="1800" spc="-1" strike="noStrike">
                <a:solidFill>
                  <a:srgbClr val="000000"/>
                </a:solidFill>
                <a:latin typeface="Calibri"/>
              </a:rPr>
              <a:t>30                             Evento Adverso Lev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1" lang="es-EC" sz="1800" spc="-1" strike="noStrike">
                <a:solidFill>
                  <a:srgbClr val="000000"/>
                </a:solidFill>
                <a:latin typeface="Calibri"/>
              </a:rPr>
              <a:t>300                                           Casi Evento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3024360" y="4248000"/>
            <a:ext cx="3095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3743280" y="2808360"/>
            <a:ext cx="165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588960" y="946080"/>
            <a:ext cx="76248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000000"/>
                </a:solidFill>
                <a:latin typeface="Arial"/>
              </a:rPr>
              <a:t>OBJETIVO GENER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Arial"/>
              </a:rPr>
              <a:t>Contribuir a la seguridad de la atención sanitaria mediante la implementación de un sistema de vigilancia y reporte de eventos adversos, eventos centinela y cuasi eventos potencialmente prevenib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1"/>
          <p:cNvSpPr/>
          <p:nvPr/>
        </p:nvSpPr>
        <p:spPr>
          <a:xfrm>
            <a:off x="1440000" y="4464000"/>
            <a:ext cx="5688000" cy="165564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Oval 2"/>
          <p:cNvSpPr/>
          <p:nvPr/>
        </p:nvSpPr>
        <p:spPr>
          <a:xfrm>
            <a:off x="1224000" y="1368360"/>
            <a:ext cx="6264360" cy="251928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88960" y="946080"/>
            <a:ext cx="7624800" cy="64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C" sz="2200" spc="-1" strike="noStrike">
                <a:solidFill>
                  <a:srgbClr val="000000"/>
                </a:solidFill>
                <a:latin typeface="Arial"/>
              </a:rPr>
              <a:t>Se estima que aproximadamente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C" sz="2200" spc="-1" strike="noStrike">
                <a:solidFill>
                  <a:srgbClr val="000000"/>
                </a:solidFill>
                <a:latin typeface="Arial"/>
              </a:rPr>
              <a:t>el 95% de todos los eventos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C" sz="2200" spc="-1" strike="noStrike">
                <a:solidFill>
                  <a:srgbClr val="000000"/>
                </a:solidFill>
                <a:latin typeface="Arial"/>
              </a:rPr>
              <a:t>adversos no se documentan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C" sz="3200" spc="-1" strike="noStrike">
                <a:solidFill>
                  <a:srgbClr val="000000"/>
                </a:solidFill>
                <a:latin typeface="Arial"/>
              </a:rPr>
              <a:t>QUEDAN OCULTO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588960" y="946080"/>
            <a:ext cx="76248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216000" y="503280"/>
            <a:ext cx="8640720" cy="61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662040" y="2664000"/>
            <a:ext cx="2938320" cy="20142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La notificación depende no sólo de la conciencia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del error, sino también de la buena voluntad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para documentarl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88960" y="946080"/>
            <a:ext cx="76248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88960" y="692280"/>
            <a:ext cx="78343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600" spc="-1" strike="noStrike">
                <a:solidFill>
                  <a:srgbClr val="000000"/>
                </a:solidFill>
                <a:latin typeface="Calibri"/>
              </a:rPr>
              <a:t>FACTORES QUE INCIDEN EN LA NOTIFICAC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3887640" y="3565440"/>
            <a:ext cx="863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Line 6"/>
          <p:cNvSpPr/>
          <p:nvPr/>
        </p:nvSpPr>
        <p:spPr>
          <a:xfrm flipH="1">
            <a:off x="3879360" y="3852720"/>
            <a:ext cx="8859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111640" y="2592360"/>
            <a:ext cx="2938680" cy="2016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956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77320"/>
                <a:tab algn="l" pos="9426600"/>
                <a:tab algn="l" pos="9875880"/>
                <a:tab algn="l" pos="10325160"/>
                <a:tab algn="l" pos="10779120"/>
                <a:tab algn="l" pos="1078056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ntender la notificación del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evento como una oportunidad para mejorar la seguridad y no como un mecanismo de culpabilizació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604800" y="68256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588960" y="946080"/>
            <a:ext cx="76248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8960" y="682560"/>
            <a:ext cx="7834320" cy="52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287280" y="1079640"/>
            <a:ext cx="4032360" cy="467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3"/>
          <a:stretch/>
        </p:blipFill>
        <p:spPr>
          <a:xfrm>
            <a:off x="4824360" y="1079640"/>
            <a:ext cx="3888000" cy="46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573120" y="898560"/>
            <a:ext cx="71913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VENTOS ADVERSO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alteraciones que afectan a las personas en forma directa, a la economía, a los sistemas sociales y al medio ambien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n estar originados por causas naturales, por intervención humana o por combinación de amba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547640" y="404640"/>
            <a:ext cx="60487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600" spc="-1" strike="noStrike">
                <a:solidFill>
                  <a:srgbClr val="000000"/>
                </a:solidFill>
                <a:latin typeface="Calibri"/>
              </a:rPr>
              <a:t>BARRERAS IDENTIFICADAS EN LA NOTIFICAC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826920" y="1407960"/>
            <a:ext cx="2160720" cy="1079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La falta de conciencia de que un error ha ocurrid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5364000" y="1413000"/>
            <a:ext cx="2411640" cy="1079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La falta de conciencia que se debe documentar y por qué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2987640" y="2637000"/>
            <a:ext cx="2448000" cy="115236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Temor a las denuncia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755640" y="3983040"/>
            <a:ext cx="2519280" cy="1008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Desconocimiento de los mecanismos de notificació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979960" y="4005360"/>
            <a:ext cx="2376720" cy="1079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No hay tiempo para documenta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Oval 10"/>
          <p:cNvSpPr/>
          <p:nvPr/>
        </p:nvSpPr>
        <p:spPr>
          <a:xfrm>
            <a:off x="2627280" y="5084640"/>
            <a:ext cx="3527280" cy="144000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La falta de “feedback” cuando se produce un regist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27.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500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2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27.5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500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2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576360" y="2087640"/>
            <a:ext cx="7920000" cy="3959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936720" y="2735280"/>
            <a:ext cx="7127640" cy="3024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260360" y="3456000"/>
            <a:ext cx="6551640" cy="1944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684360" y="792000"/>
            <a:ext cx="77752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000000"/>
                </a:solidFill>
                <a:latin typeface="Calibri"/>
              </a:rPr>
              <a:t>SISTEMA DE REGISTR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Cultura de Segurida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Infraestructura de Segurida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Datos          Información           Conocimiento          Aprendizaje </a:t>
            </a:r>
            <a:r>
              <a:rPr b="0" lang="es-EC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5472000" y="4788000"/>
            <a:ext cx="432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3059280" y="4788000"/>
            <a:ext cx="43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763640" y="4057560"/>
            <a:ext cx="432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3238560" y="4056120"/>
            <a:ext cx="43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4861080" y="4054320"/>
            <a:ext cx="431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1368360" y="4464000"/>
            <a:ext cx="165600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Sistema de notificac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3600360" y="4464000"/>
            <a:ext cx="165600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Compartir la informació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6048360" y="4464000"/>
            <a:ext cx="165564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Resolver problema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1511280" y="4967280"/>
            <a:ext cx="2232000" cy="720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1295280" y="2808360"/>
            <a:ext cx="2664000" cy="1584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584360" y="1617840"/>
            <a:ext cx="655164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RETROALIMENTAC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Personal de Salud            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Registro de: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E. Adversos 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E. Centinela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Casi Event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Gestión de l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Calida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INFORM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2448000" y="2303640"/>
            <a:ext cx="424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6696000" y="230364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2448000" y="439272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3743280" y="5400720"/>
            <a:ext cx="2952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Line 9"/>
          <p:cNvSpPr/>
          <p:nvPr/>
        </p:nvSpPr>
        <p:spPr>
          <a:xfrm flipV="1">
            <a:off x="6696000" y="4167360"/>
            <a:ext cx="1800" cy="12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2448000" y="230364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800360" y="1008000"/>
            <a:ext cx="5472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000000"/>
                </a:solidFill>
                <a:latin typeface="Calibri"/>
              </a:rPr>
              <a:t>NOTIFICAC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184720" y="3166920"/>
            <a:ext cx="2879640" cy="936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Comite Institucional de la Calida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584360" y="1617840"/>
            <a:ext cx="655164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936720" y="936720"/>
            <a:ext cx="3384360" cy="4751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5184720" y="936720"/>
            <a:ext cx="3168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1584360" y="1617840"/>
            <a:ext cx="655164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008000" y="792000"/>
            <a:ext cx="734400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1584360" y="1617840"/>
            <a:ext cx="655164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440000" y="503280"/>
            <a:ext cx="568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Calibri"/>
              </a:rPr>
              <a:t>DEPENDENCIA DEL SISTEMA DE REGISTRO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Oval 4"/>
          <p:cNvSpPr/>
          <p:nvPr/>
        </p:nvSpPr>
        <p:spPr>
          <a:xfrm>
            <a:off x="287280" y="1440000"/>
            <a:ext cx="3095640" cy="165564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Conocimiento del personal de salud para identificar un evento advers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2879640" y="3311640"/>
            <a:ext cx="2735280" cy="122400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xperiencias previa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5400720" y="4535640"/>
            <a:ext cx="3168720" cy="122364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Una cultura no punitiva (sanción) cuando se identifica un err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Oval 1"/>
          <p:cNvSpPr/>
          <p:nvPr/>
        </p:nvSpPr>
        <p:spPr>
          <a:xfrm>
            <a:off x="2376360" y="3311640"/>
            <a:ext cx="4248360" cy="251928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Oval 2"/>
          <p:cNvSpPr/>
          <p:nvPr/>
        </p:nvSpPr>
        <p:spPr>
          <a:xfrm>
            <a:off x="2519280" y="1295280"/>
            <a:ext cx="3672000" cy="187164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584360" y="503280"/>
            <a:ext cx="655164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47640" y="360360"/>
            <a:ext cx="748836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000000"/>
                </a:solidFill>
                <a:latin typeface="Calibri"/>
              </a:rPr>
              <a:t>PROPOSI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Promover y desarroll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l conocimiento y la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cultura de seguridad del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paciente en el hospita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stablecer sistema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formadores para l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la comunicación de lo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ventos adverso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relacionados con la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seguridad del pacient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3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0" dur="3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3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6" dur="3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6" dur="30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9" dur="30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2" dur="30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5" dur="3000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8" dur="30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1" dur="30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584360" y="503280"/>
            <a:ext cx="655164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47640" y="360360"/>
            <a:ext cx="748836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368360" y="576360"/>
            <a:ext cx="6264360" cy="74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000000"/>
                </a:solidFill>
                <a:latin typeface="Calibri"/>
              </a:rPr>
              <a:t>FINAL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"/>
              </a:rPr>
              <a:t>Fortalecer la detección de eventos adverso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"/>
              </a:rPr>
              <a:t>para identificar </a:t>
            </a:r>
            <a:r>
              <a:rPr b="1" lang="es-EC" sz="2000" spc="-1" strike="noStrike">
                <a:solidFill>
                  <a:srgbClr val="000000"/>
                </a:solidFill>
                <a:latin typeface="Calibri"/>
              </a:rPr>
              <a:t>oportunidades para l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Calibri"/>
              </a:rPr>
              <a:t>mejora </a:t>
            </a:r>
            <a:r>
              <a:rPr b="0" lang="es-EC" sz="2000" spc="-1" strike="noStrike">
                <a:solidFill>
                  <a:srgbClr val="000000"/>
                </a:solidFill>
                <a:latin typeface="Calibri"/>
              </a:rPr>
              <a:t>de la calidad técnico - asistencial en el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"/>
              </a:rPr>
              <a:t>proceso de atención de salu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84360" y="503280"/>
            <a:ext cx="655164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47640" y="360360"/>
            <a:ext cx="748836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368360" y="576360"/>
            <a:ext cx="6264360" cy="101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000000"/>
                </a:solidFill>
                <a:latin typeface="Calibri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Supongamos a un recién nacido con un cuadro d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incompatibilidad de grupo sanguíneo, que genera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una ictericia y durante la hospitalización sufre un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cuadro de kernícterus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l cuadro clínico es claramente consecuencia de su patología de base; pero un kernícterus intrahospi -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talario, por definición, </a:t>
            </a:r>
            <a:r>
              <a:rPr b="1" lang="es-EC" sz="1800" spc="-1" strike="noStrike">
                <a:solidFill>
                  <a:srgbClr val="000000"/>
                </a:solidFill>
                <a:latin typeface="Calibri"/>
              </a:rPr>
              <a:t>es un evento adverso.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s responsabilidad de la atención en salud modificar el curso natural de la enfermedad. De eso se trata l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Atención en salud, ¿no?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Si no se le hizo un seguimiento adecuado a este neonato o no hubo una intervención oportuna (p.e. una exanguíneo transfusión), ¿qué sentido tiene la atención en salud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584360" y="503280"/>
            <a:ext cx="655164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47640" y="360360"/>
            <a:ext cx="748836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368360" y="576360"/>
            <a:ext cx="6264360" cy="9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3200" spc="-1" strike="noStrike">
                <a:solidFill>
                  <a:srgbClr val="000000"/>
                </a:solidFill>
                <a:latin typeface="Calibri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"/>
              </a:rPr>
              <a:t>Un cirujano que se contamina en el acto quirúrgico con la sangre de un </a:t>
            </a:r>
            <a:r>
              <a:rPr b="1" lang="es-EC" sz="2000" spc="-1" strike="noStrike">
                <a:solidFill>
                  <a:srgbClr val="000000"/>
                </a:solidFill>
                <a:latin typeface="Calibri"/>
              </a:rPr>
              <a:t>paciente VIH positiv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"/>
              </a:rPr>
              <a:t>Ciertamente, es una situación catastrófica, pero </a:t>
            </a:r>
            <a:r>
              <a:rPr b="1" lang="es-EC" sz="2000" spc="-1" strike="noStrike">
                <a:solidFill>
                  <a:srgbClr val="000000"/>
                </a:solidFill>
                <a:latin typeface="Calibri"/>
              </a:rPr>
              <a:t>no hace parte de un evento adverso</a:t>
            </a:r>
            <a:r>
              <a:rPr b="0" lang="es-EC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Calibri"/>
              </a:rPr>
              <a:t>Se trata de un accidente de trabajo</a:t>
            </a:r>
            <a:r>
              <a:rPr b="0" lang="es-EC" sz="2000" spc="-1" strike="noStrike">
                <a:solidFill>
                  <a:srgbClr val="000000"/>
                </a:solidFill>
                <a:latin typeface="Calibri"/>
              </a:rPr>
              <a:t> que tiene un manejo en la prevención, atención y control específico y diferente al del manejo de eventos adversos en el ámbito de la seguridad del paciente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573120" y="898560"/>
            <a:ext cx="719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ES CONTRIBUYENTES PARA UN EVENTO ADVERSO EN SAL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ores Humanos: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atio de profesional-pacientes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urnos, fatiga, capacitació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5759280" y="417672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5543640" y="180036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tretch/>
        </p:blipFill>
        <p:spPr>
          <a:xfrm>
            <a:off x="1295280" y="4248000"/>
            <a:ext cx="302436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1584360" y="503280"/>
            <a:ext cx="655164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47640" y="360360"/>
            <a:ext cx="748836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368360" y="576360"/>
            <a:ext cx="6264360" cy="10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GURIDAD CLINIC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el conjunto de elementos estructurales, procesos, Instrumentos y metodologías, basadas en evidencia científica probada, que buscan minimizar 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iesgo de sufrir un evento advers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l proceso de Atención de Salud o de mitigar sus consecuenci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1584360" y="792000"/>
            <a:ext cx="76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1584360" y="503280"/>
            <a:ext cx="655164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647640" y="360360"/>
            <a:ext cx="748836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368360" y="576360"/>
            <a:ext cx="626436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647640" y="576360"/>
            <a:ext cx="78487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"/>
          <p:cNvPicPr/>
          <p:nvPr/>
        </p:nvPicPr>
        <p:blipFill>
          <a:blip r:embed="rId2"/>
          <a:srcRect l="26053" t="14006" r="23300" b="10989"/>
          <a:stretch/>
        </p:blipFill>
        <p:spPr>
          <a:xfrm>
            <a:off x="709560" y="236520"/>
            <a:ext cx="7740720" cy="58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762120" y="2828880"/>
            <a:ext cx="7711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200" spc="-1" strike="noStrike">
                <a:solidFill>
                  <a:srgbClr val="0047ff"/>
                </a:solidFill>
                <a:latin typeface="Arial"/>
                <a:ea typeface="ＭＳ Ｐゴシック"/>
              </a:rPr>
              <a:t>“</a:t>
            </a:r>
            <a:r>
              <a:rPr b="1" i="1" lang="es-ES" sz="3200" spc="-1" strike="noStrike">
                <a:solidFill>
                  <a:srgbClr val="0047ff"/>
                </a:solidFill>
                <a:latin typeface="Arial"/>
                <a:ea typeface="ＭＳ Ｐゴシック"/>
              </a:rPr>
              <a:t>El único hombre que no se equivoca es el que nunca hace nada.”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3200" spc="-1" strike="noStrike">
                <a:solidFill>
                  <a:srgbClr val="0047ff"/>
                </a:solidFill>
                <a:latin typeface="Arial"/>
                <a:ea typeface="ＭＳ Ｐゴシック"/>
              </a:rPr>
              <a:t>                                                        </a:t>
            </a:r>
            <a:r>
              <a:rPr b="1" i="1" lang="es-ES" sz="3200" spc="-1" strike="noStrike">
                <a:solidFill>
                  <a:srgbClr val="0047ff"/>
                </a:solidFill>
                <a:latin typeface="Arial"/>
                <a:ea typeface="ＭＳ Ｐゴシック"/>
              </a:rPr>
              <a:t>Goet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762120" y="2828880"/>
            <a:ext cx="771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47ff"/>
                </a:solidFill>
                <a:latin typeface="Arial"/>
              </a:rPr>
              <a:t>GRACIAS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573120" y="898560"/>
            <a:ext cx="71913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ES CONTRIBUYENTES PARA UN EVENTO ADVERSO EN SAL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ores del Proceso: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 los fallos d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diferentes pasos del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ceso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248000" y="1782720"/>
            <a:ext cx="4248360" cy="39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573120" y="898560"/>
            <a:ext cx="7191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ES CONTRIBUYENTES PARA UN EVENTO ADVERSO EN SAL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quipamiento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tenimiento: preventivo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nuo y reactivo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535640" y="1800360"/>
            <a:ext cx="403200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573120" y="898560"/>
            <a:ext cx="71913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ES CONTRIBUYENTES PARA UN EVENTO ADVERSO EN SAL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ores Ambientales: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uido, espacio, mobiliari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4751280" y="1871640"/>
            <a:ext cx="381636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573120" y="898560"/>
            <a:ext cx="719136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ES CONTRIBUYENTES PARA UN EVENTO ADVERSO EN SAL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stión de la Información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unicación intra y extr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quip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5543640" y="4248000"/>
            <a:ext cx="295272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5111640" y="1584360"/>
            <a:ext cx="3456000" cy="266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4"/>
          <a:stretch/>
        </p:blipFill>
        <p:spPr>
          <a:xfrm>
            <a:off x="1079640" y="4392720"/>
            <a:ext cx="309564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15:11:22Z</dcterms:created>
  <dc:creator>Administrador administrador</dc:creator>
  <dc:description/>
  <dc:language>en-US</dc:language>
  <cp:lastModifiedBy>Puyo</cp:lastModifiedBy>
  <dcterms:modified xsi:type="dcterms:W3CDTF">2014-11-19T16:29:00Z</dcterms:modified>
  <cp:revision>36</cp:revision>
  <dc:subject/>
  <dc:title>Presentación de PowerPoint</dc:title>
</cp:coreProperties>
</file>