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79200" cy="124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65880" cy="40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281972-938C-40C0-833A-21C3488383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0908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0908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97440"/>
            <a:ext cx="820908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E4F60E-0166-4D4C-B0E6-3E9ADE5698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0908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572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3080" y="1599840"/>
            <a:ext cx="400572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97440"/>
            <a:ext cx="400572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3080" y="3997440"/>
            <a:ext cx="400572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3907E0-6A97-4665-B8FD-ABB0F44792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0908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312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2440" y="1599840"/>
            <a:ext cx="264312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8040" y="1599840"/>
            <a:ext cx="264312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97440"/>
            <a:ext cx="264312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2440" y="3997440"/>
            <a:ext cx="264312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8040" y="3997440"/>
            <a:ext cx="264312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049DA5-2DA5-4D69-915B-E11D273D8F4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0908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09080" cy="45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82D6CA-1AC3-4A73-B844-A17DCB54773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0908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09080" cy="45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EAABDB-97D7-45EF-B445-26A89774BB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0908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5720" cy="45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3080" y="1599840"/>
            <a:ext cx="4005720" cy="45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B79464-A6B7-4273-ABBF-547CF4FB70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0908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F7E2A7-A7B3-49C7-A542-EA8A4DEF91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09080" cy="660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7129AE-229E-43A9-BFB7-0E73C5692D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0908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572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3080" y="1599840"/>
            <a:ext cx="4005720" cy="45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97440"/>
            <a:ext cx="400572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1BA1C7-E62B-4D4F-B5F6-5D841467FD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0908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5720" cy="45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3080" y="1599840"/>
            <a:ext cx="400572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3080" y="3997440"/>
            <a:ext cx="400572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DD7D3A-AA0B-489D-8BAF-73BAB18196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0908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572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3080" y="1599840"/>
            <a:ext cx="400572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97440"/>
            <a:ext cx="820908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2EB844-7039-456F-83D1-0E00401FFC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0908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09080" cy="45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353280"/>
            <a:ext cx="211932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472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3080" y="6353280"/>
            <a:ext cx="211320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C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22C70E-2B8E-4D02-AB1A-DC1F73EDD7A0}" type="slidenum">
              <a:rPr b="0" lang="es-EC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720720" y="2097000"/>
            <a:ext cx="7704000" cy="23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C" sz="2800" spc="-1" strike="noStrike">
                <a:solidFill>
                  <a:srgbClr val="0000ff"/>
                </a:solidFill>
                <a:latin typeface="Calibri"/>
              </a:rPr>
              <a:t>MANEJO DE MEDICAMENTOS  DE ALTO RIESGO Y CONTROL DE ELECTROLITOS CONCENTRADOS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"/>
          <p:cNvSpPr/>
          <p:nvPr/>
        </p:nvSpPr>
        <p:spPr>
          <a:xfrm>
            <a:off x="235080" y="4608360"/>
            <a:ext cx="24289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97160" y="3643200"/>
            <a:ext cx="4606920" cy="283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287280" y="647640"/>
            <a:ext cx="8640720" cy="1513080"/>
          </a:xfrm>
          <a:prstGeom prst="roundRect">
            <a:avLst>
              <a:gd name="adj" fmla="val 16667"/>
            </a:avLst>
          </a:prstGeom>
          <a:solidFill>
            <a:srgbClr val="729fcf"/>
          </a:solidFill>
          <a:ln cap="sq" w="9360">
            <a:solidFill>
              <a:srgbClr val="346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C" sz="1500" spc="-1" strike="noStrike">
                <a:solidFill>
                  <a:srgbClr val="000000"/>
                </a:solidFill>
                <a:latin typeface="Calibri"/>
              </a:rPr>
              <a:t>Existen algunos espacios físicos que por sus características deben mantener almacenados</a:t>
            </a:r>
            <a:endParaRPr b="0" lang="en-US" sz="15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C" sz="1500" spc="-1" strike="noStrike">
                <a:solidFill>
                  <a:srgbClr val="000000"/>
                </a:solidFill>
                <a:latin typeface="Calibri"/>
              </a:rPr>
              <a:t>electrolitos concentrados  como UCI, carros rojos de cada servicio, esto  deberá  ser </a:t>
            </a:r>
            <a:endParaRPr b="0" lang="en-US" sz="15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C" sz="1500" spc="-1" strike="noStrike">
                <a:solidFill>
                  <a:srgbClr val="000000"/>
                </a:solidFill>
                <a:latin typeface="Calibri"/>
              </a:rPr>
              <a:t>justificados por seguridad y  se establecerán actas de entrega- recepción.</a:t>
            </a:r>
            <a:endParaRPr b="0" lang="en-US" sz="1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"/>
          <p:cNvSpPr/>
          <p:nvPr/>
        </p:nvSpPr>
        <p:spPr>
          <a:xfrm>
            <a:off x="287280" y="2448000"/>
            <a:ext cx="8567640" cy="936720"/>
          </a:xfrm>
          <a:prstGeom prst="roundRect">
            <a:avLst>
              <a:gd name="adj" fmla="val 16667"/>
            </a:avLst>
          </a:prstGeom>
          <a:solidFill>
            <a:srgbClr val="729fcf"/>
          </a:solidFill>
          <a:ln cap="sq" w="9360">
            <a:solidFill>
              <a:srgbClr val="346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C" sz="1500" spc="-1" strike="noStrike">
                <a:solidFill>
                  <a:srgbClr val="000000"/>
                </a:solidFill>
                <a:latin typeface="Calibri"/>
              </a:rPr>
              <a:t>Se dispensará únicamente dosis de electrolitos  para 24 horas, para lo  cual el coche de </a:t>
            </a:r>
            <a:endParaRPr b="0" lang="en-US" sz="15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C" sz="1500" spc="-1" strike="noStrike">
                <a:solidFill>
                  <a:srgbClr val="000000"/>
                </a:solidFill>
                <a:latin typeface="Calibri"/>
              </a:rPr>
              <a:t>dosis unitaria debe estar bien rotulado.</a:t>
            </a:r>
            <a:endParaRPr b="0" lang="en-US" sz="1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"/>
          <p:cNvSpPr/>
          <p:nvPr/>
        </p:nvSpPr>
        <p:spPr>
          <a:xfrm>
            <a:off x="287280" y="3743280"/>
            <a:ext cx="8567640" cy="1035000"/>
          </a:xfrm>
          <a:prstGeom prst="roundRect">
            <a:avLst>
              <a:gd name="adj" fmla="val 16667"/>
            </a:avLst>
          </a:prstGeom>
          <a:solidFill>
            <a:srgbClr val="729fcf"/>
          </a:solidFill>
          <a:ln cap="sq" w="9360">
            <a:solidFill>
              <a:srgbClr val="346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C" sz="1500" spc="-1" strike="noStrike">
                <a:solidFill>
                  <a:srgbClr val="000000"/>
                </a:solidFill>
                <a:latin typeface="Calibri"/>
              </a:rPr>
              <a:t>Se realizara la difusión al personal relacionado con la indicación y  administración de</a:t>
            </a:r>
            <a:endParaRPr b="0" lang="en-US" sz="15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C" sz="1500" spc="-1" strike="noStrike">
                <a:solidFill>
                  <a:srgbClr val="000000"/>
                </a:solidFill>
                <a:latin typeface="Calibri"/>
              </a:rPr>
              <a:t>Medicamentos indicando que los electrolitos concentrados requieren dilución.</a:t>
            </a:r>
            <a:endParaRPr b="0" lang="en-US" sz="15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2160720" y="360360"/>
            <a:ext cx="4824360" cy="863640"/>
          </a:xfrm>
          <a:prstGeom prst="ellipse">
            <a:avLst/>
          </a:prstGeom>
          <a:solidFill>
            <a:srgbClr val="729fcf"/>
          </a:solidFill>
          <a:ln cap="sq"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C" sz="1800" spc="-1" strike="noStrike">
                <a:solidFill>
                  <a:srgbClr val="000000"/>
                </a:solidFill>
                <a:latin typeface="Calibri"/>
              </a:rPr>
              <a:t>IMPLEMENTACIÓN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"/>
          <p:cNvSpPr/>
          <p:nvPr/>
        </p:nvSpPr>
        <p:spPr>
          <a:xfrm>
            <a:off x="2735280" y="1800360"/>
            <a:ext cx="3672000" cy="1079280"/>
          </a:xfrm>
          <a:prstGeom prst="ellipse">
            <a:avLst/>
          </a:prstGeom>
          <a:solidFill>
            <a:srgbClr val="cfe7f5"/>
          </a:solidFill>
          <a:ln cap="sq"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C" sz="1800" spc="-1" strike="noStrike">
                <a:solidFill>
                  <a:srgbClr val="000000"/>
                </a:solidFill>
                <a:latin typeface="Calibri"/>
              </a:rPr>
              <a:t>FARMACIA etiquetado cada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C" sz="1800" spc="-1" strike="noStrike">
                <a:solidFill>
                  <a:srgbClr val="000000"/>
                </a:solidFill>
                <a:latin typeface="Calibri"/>
              </a:rPr>
              <a:t>Electrolito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16" name=""/>
          <p:cNvCxnSpPr>
            <a:stCxn id="114" idx="4"/>
            <a:endCxn id="115" idx="0"/>
          </p:cNvCxnSpPr>
          <p:nvPr/>
        </p:nvCxnSpPr>
        <p:spPr>
          <a:xfrm flipH="1">
            <a:off x="4571640" y="1223640"/>
            <a:ext cx="2160" cy="577080"/>
          </a:xfrm>
          <a:prstGeom prst="straightConnector1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7" name=""/>
          <p:cNvCxnSpPr>
            <a:stCxn id="115" idx="4"/>
          </p:cNvCxnSpPr>
          <p:nvPr/>
        </p:nvCxnSpPr>
        <p:spPr>
          <a:xfrm>
            <a:off x="4571640" y="2879280"/>
            <a:ext cx="5400" cy="577080"/>
          </a:xfrm>
          <a:prstGeom prst="straightConnector1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" name=""/>
          <p:cNvCxnSpPr/>
          <p:nvPr/>
        </p:nvCxnSpPr>
        <p:spPr>
          <a:xfrm>
            <a:off x="1765440" y="3446640"/>
            <a:ext cx="5823360" cy="2160"/>
          </a:xfrm>
          <a:prstGeom prst="straightConnector1">
            <a:avLst/>
          </a:prstGeom>
          <a:ln cap="sq" w="9360">
            <a:solidFill>
              <a:srgbClr val="000000"/>
            </a:solidFill>
            <a:miter/>
          </a:ln>
        </p:spPr>
      </p:cxnSp>
      <p:cxnSp>
        <p:nvCxnSpPr>
          <p:cNvPr id="119" name=""/>
          <p:cNvCxnSpPr/>
          <p:nvPr/>
        </p:nvCxnSpPr>
        <p:spPr>
          <a:xfrm>
            <a:off x="4572000" y="3456000"/>
            <a:ext cx="8640" cy="489600"/>
          </a:xfrm>
          <a:prstGeom prst="straightConnector1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0" name=""/>
          <p:cNvCxnSpPr/>
          <p:nvPr/>
        </p:nvCxnSpPr>
        <p:spPr>
          <a:xfrm>
            <a:off x="1765080" y="3456000"/>
            <a:ext cx="6840" cy="489600"/>
          </a:xfrm>
          <a:prstGeom prst="straightConnector1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1" name=""/>
          <p:cNvCxnSpPr/>
          <p:nvPr/>
        </p:nvCxnSpPr>
        <p:spPr>
          <a:xfrm>
            <a:off x="7596000" y="3456000"/>
            <a:ext cx="6840" cy="489600"/>
          </a:xfrm>
          <a:prstGeom prst="straightConnector1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" name=""/>
          <p:cNvCxnSpPr/>
          <p:nvPr/>
        </p:nvCxnSpPr>
        <p:spPr>
          <a:xfrm flipH="1">
            <a:off x="3164760" y="3456000"/>
            <a:ext cx="3960" cy="1937520"/>
          </a:xfrm>
          <a:prstGeom prst="straightConnector1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"/>
          <p:cNvCxnSpPr/>
          <p:nvPr/>
        </p:nvCxnSpPr>
        <p:spPr>
          <a:xfrm flipH="1">
            <a:off x="6042960" y="3457440"/>
            <a:ext cx="3960" cy="1937520"/>
          </a:xfrm>
          <a:prstGeom prst="straightConnector1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720720" y="3924360"/>
            <a:ext cx="2087640" cy="1295280"/>
          </a:xfrm>
          <a:prstGeom prst="rect">
            <a:avLst/>
          </a:prstGeom>
          <a:solidFill>
            <a:srgbClr val="ff3333"/>
          </a:solidFill>
          <a:ln cap="sq"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C" sz="1600" spc="-1" strike="noStrike">
                <a:solidFill>
                  <a:srgbClr val="000000"/>
                </a:solidFill>
                <a:latin typeface="Calibri"/>
              </a:rPr>
              <a:t>Cloruro de Potasio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C" sz="1600" spc="-1" strike="noStrike">
                <a:solidFill>
                  <a:srgbClr val="000000"/>
                </a:solidFill>
                <a:latin typeface="Calibri"/>
              </a:rPr>
              <a:t>2 mEq/mL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C" sz="1600" spc="-1" strike="noStrike">
                <a:solidFill>
                  <a:srgbClr val="000000"/>
                </a:solidFill>
                <a:latin typeface="Calibri"/>
              </a:rPr>
              <a:t>ROJO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"/>
          <p:cNvSpPr/>
          <p:nvPr/>
        </p:nvSpPr>
        <p:spPr>
          <a:xfrm>
            <a:off x="3527280" y="3924360"/>
            <a:ext cx="2087640" cy="1295280"/>
          </a:xfrm>
          <a:prstGeom prst="rect">
            <a:avLst/>
          </a:prstGeom>
          <a:solidFill>
            <a:srgbClr val="94bd5e"/>
          </a:solidFill>
          <a:ln cap="sq"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C" sz="1600" spc="-1" strike="noStrike">
                <a:solidFill>
                  <a:srgbClr val="000000"/>
                </a:solidFill>
                <a:latin typeface="Calibri"/>
              </a:rPr>
              <a:t>Cloruro de Sodio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C" sz="1600" spc="-1" strike="noStrike">
                <a:solidFill>
                  <a:srgbClr val="000000"/>
                </a:solidFill>
                <a:latin typeface="Calibri"/>
              </a:rPr>
              <a:t>20%(3.422 mEq/mL)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C" sz="1600" spc="-1" strike="noStrike">
                <a:solidFill>
                  <a:srgbClr val="000000"/>
                </a:solidFill>
                <a:latin typeface="Calibri"/>
              </a:rPr>
              <a:t>VERDE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"/>
          <p:cNvSpPr/>
          <p:nvPr/>
        </p:nvSpPr>
        <p:spPr>
          <a:xfrm>
            <a:off x="6551640" y="3924360"/>
            <a:ext cx="2087640" cy="1295280"/>
          </a:xfrm>
          <a:prstGeom prst="rect">
            <a:avLst/>
          </a:prstGeom>
          <a:solidFill>
            <a:srgbClr val="0066cc"/>
          </a:solidFill>
          <a:ln cap="sq"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C" sz="1600" spc="-1" strike="noStrike">
                <a:solidFill>
                  <a:srgbClr val="000000"/>
                </a:solidFill>
                <a:latin typeface="Calibri"/>
              </a:rPr>
              <a:t>Gluconato de Calcio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C" sz="1600" spc="-1" strike="noStrike">
                <a:solidFill>
                  <a:srgbClr val="000000"/>
                </a:solidFill>
                <a:latin typeface="Calibri"/>
              </a:rPr>
              <a:t>10%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C" sz="1600" spc="-1" strike="noStrike">
                <a:solidFill>
                  <a:srgbClr val="000000"/>
                </a:solidFill>
                <a:latin typeface="Calibri"/>
              </a:rPr>
              <a:t>AZUL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"/>
          <p:cNvSpPr/>
          <p:nvPr/>
        </p:nvSpPr>
        <p:spPr>
          <a:xfrm>
            <a:off x="5003640" y="5400720"/>
            <a:ext cx="2087640" cy="1295280"/>
          </a:xfrm>
          <a:prstGeom prst="rect">
            <a:avLst/>
          </a:prstGeom>
          <a:solidFill>
            <a:srgbClr val="ff6633"/>
          </a:solidFill>
          <a:ln cap="sq"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C" sz="1600" spc="-1" strike="noStrike">
                <a:solidFill>
                  <a:srgbClr val="000000"/>
                </a:solidFill>
                <a:latin typeface="Calibri"/>
              </a:rPr>
              <a:t>Sulfato de 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C" sz="1600" spc="-1" strike="noStrike">
                <a:solidFill>
                  <a:srgbClr val="000000"/>
                </a:solidFill>
                <a:latin typeface="Calibri"/>
              </a:rPr>
              <a:t>Magnesio 10%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C" sz="1600" spc="-1" strike="noStrike">
                <a:solidFill>
                  <a:srgbClr val="000000"/>
                </a:solidFill>
                <a:latin typeface="Calibri"/>
              </a:rPr>
              <a:t>NARANJA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"/>
          <p:cNvSpPr/>
          <p:nvPr/>
        </p:nvSpPr>
        <p:spPr>
          <a:xfrm>
            <a:off x="2124000" y="5400720"/>
            <a:ext cx="2087640" cy="1295280"/>
          </a:xfrm>
          <a:prstGeom prst="rect">
            <a:avLst/>
          </a:prstGeom>
          <a:solidFill>
            <a:srgbClr val="ff00ff"/>
          </a:solidFill>
          <a:ln cap="sq"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C" sz="1600" spc="-1" strike="noStrike">
                <a:solidFill>
                  <a:srgbClr val="000000"/>
                </a:solidFill>
                <a:latin typeface="Calibri"/>
              </a:rPr>
              <a:t>Bicarbonato de 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C" sz="1600" spc="-1" strike="noStrike">
                <a:solidFill>
                  <a:srgbClr val="000000"/>
                </a:solidFill>
                <a:latin typeface="Calibri"/>
              </a:rPr>
              <a:t>Sodio 8.4%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C" sz="1600" spc="-1" strike="noStrike">
                <a:solidFill>
                  <a:srgbClr val="000000"/>
                </a:solidFill>
                <a:latin typeface="Calibri"/>
              </a:rPr>
              <a:t>FUCSIA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4788000" y="3500280"/>
            <a:ext cx="3960720" cy="324180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324000" y="115920"/>
            <a:ext cx="4535280" cy="33843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5435640" y="1268280"/>
            <a:ext cx="30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C" sz="1800" spc="-1" strike="noStrike">
                <a:solidFill>
                  <a:srgbClr val="c00000"/>
                </a:solidFill>
                <a:latin typeface="Calibri"/>
              </a:rPr>
              <a:t>Almacenamiento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"/>
          <p:cNvSpPr/>
          <p:nvPr/>
        </p:nvSpPr>
        <p:spPr>
          <a:xfrm>
            <a:off x="684360" y="4869000"/>
            <a:ext cx="35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C" sz="1800" spc="-1" strike="noStrike">
                <a:solidFill>
                  <a:srgbClr val="c00000"/>
                </a:solidFill>
                <a:latin typeface="Calibri"/>
              </a:rPr>
              <a:t>Distribución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216000" y="1773360"/>
            <a:ext cx="8783640" cy="4176720"/>
          </a:xfrm>
          <a:prstGeom prst="roundRect">
            <a:avLst>
              <a:gd name="adj" fmla="val 16667"/>
            </a:avLst>
          </a:prstGeom>
          <a:solidFill>
            <a:srgbClr val="729fcf"/>
          </a:solidFill>
          <a:ln cap="sq" w="9360">
            <a:solidFill>
              <a:srgbClr val="346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marL="279360" indent="-279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279360"/>
                <a:tab algn="l" pos="727200"/>
                <a:tab algn="l" pos="1176480"/>
                <a:tab algn="l" pos="1625760"/>
                <a:tab algn="l" pos="2075040"/>
                <a:tab algn="l" pos="2523960"/>
                <a:tab algn="l" pos="2973240"/>
                <a:tab algn="l" pos="3422520"/>
                <a:tab algn="l" pos="3871800"/>
                <a:tab algn="l" pos="4321080"/>
                <a:tab algn="l" pos="4770360"/>
                <a:tab algn="l" pos="5219640"/>
                <a:tab algn="l" pos="5668920"/>
                <a:tab algn="l" pos="6118200"/>
                <a:tab algn="l" pos="6567480"/>
                <a:tab algn="l" pos="7016760"/>
                <a:tab algn="l" pos="7466040"/>
                <a:tab algn="l" pos="7915320"/>
                <a:tab algn="l" pos="8364600"/>
                <a:tab algn="l" pos="8813880"/>
                <a:tab algn="l" pos="9263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C" sz="1400" spc="-1" strike="noStrike">
                <a:solidFill>
                  <a:srgbClr val="000000"/>
                </a:solidFill>
                <a:latin typeface="Calibri"/>
              </a:rPr>
              <a:t>Almacenamiento de soluciones concentradas en los botiquines de las unidades 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marL="282600" indent="-279360">
              <a:spcBef>
                <a:spcPts val="799"/>
              </a:spcBef>
              <a:tabLst>
                <a:tab algn="l" pos="0"/>
                <a:tab algn="l" pos="279360"/>
                <a:tab algn="l" pos="727200"/>
                <a:tab algn="l" pos="1176480"/>
                <a:tab algn="l" pos="1625760"/>
                <a:tab algn="l" pos="2075040"/>
                <a:tab algn="l" pos="2523960"/>
                <a:tab algn="l" pos="2973240"/>
                <a:tab algn="l" pos="3422520"/>
                <a:tab algn="l" pos="3871800"/>
                <a:tab algn="l" pos="4321080"/>
                <a:tab algn="l" pos="4770360"/>
                <a:tab algn="l" pos="5219640"/>
                <a:tab algn="l" pos="5668920"/>
                <a:tab algn="l" pos="6118200"/>
                <a:tab algn="l" pos="6567480"/>
                <a:tab algn="l" pos="7016760"/>
                <a:tab algn="l" pos="7466040"/>
                <a:tab algn="l" pos="7915320"/>
                <a:tab algn="l" pos="8364600"/>
                <a:tab algn="l" pos="8813880"/>
                <a:tab algn="l" pos="9263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C" sz="1400" spc="-1" strike="noStrike">
                <a:solidFill>
                  <a:srgbClr val="000000"/>
                </a:solidFill>
                <a:latin typeface="Calibri"/>
              </a:rPr>
              <a:t>asistenciales.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marL="279360" indent="-279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279360"/>
                <a:tab algn="l" pos="727200"/>
                <a:tab algn="l" pos="1176480"/>
                <a:tab algn="l" pos="1625760"/>
                <a:tab algn="l" pos="2075040"/>
                <a:tab algn="l" pos="2523960"/>
                <a:tab algn="l" pos="2973240"/>
                <a:tab algn="l" pos="3422520"/>
                <a:tab algn="l" pos="3871800"/>
                <a:tab algn="l" pos="4321080"/>
                <a:tab algn="l" pos="4770360"/>
                <a:tab algn="l" pos="5219640"/>
                <a:tab algn="l" pos="5668920"/>
                <a:tab algn="l" pos="6118200"/>
                <a:tab algn="l" pos="6567480"/>
                <a:tab algn="l" pos="7016760"/>
                <a:tab algn="l" pos="7466040"/>
                <a:tab algn="l" pos="7915320"/>
                <a:tab algn="l" pos="8364600"/>
                <a:tab algn="l" pos="8813880"/>
                <a:tab algn="l" pos="9263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C" sz="1400" spc="-1" strike="noStrike">
                <a:solidFill>
                  <a:srgbClr val="000000"/>
                </a:solidFill>
                <a:latin typeface="Calibri"/>
              </a:rPr>
              <a:t>Confusión de las ampollas de KCl con otras soluciones IV de aspecto similar.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marL="279360" indent="-279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279360"/>
                <a:tab algn="l" pos="727200"/>
                <a:tab algn="l" pos="1176480"/>
                <a:tab algn="l" pos="1625760"/>
                <a:tab algn="l" pos="2075040"/>
                <a:tab algn="l" pos="2523960"/>
                <a:tab algn="l" pos="2973240"/>
                <a:tab algn="l" pos="3422520"/>
                <a:tab algn="l" pos="3871800"/>
                <a:tab algn="l" pos="4321080"/>
                <a:tab algn="l" pos="4770360"/>
                <a:tab algn="l" pos="5219640"/>
                <a:tab algn="l" pos="5668920"/>
                <a:tab algn="l" pos="6118200"/>
                <a:tab algn="l" pos="6567480"/>
                <a:tab algn="l" pos="7016760"/>
                <a:tab algn="l" pos="7466040"/>
                <a:tab algn="l" pos="7915320"/>
                <a:tab algn="l" pos="8364600"/>
                <a:tab algn="l" pos="8813880"/>
                <a:tab algn="l" pos="9263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C" sz="1400" spc="-1" strike="noStrike">
                <a:solidFill>
                  <a:srgbClr val="000000"/>
                </a:solidFill>
                <a:latin typeface="Calibri"/>
              </a:rPr>
              <a:t>Existencia de ampollas multidosis que pueden ocasionar sobredosificaciones por error.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marL="279360" indent="-279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279360"/>
                <a:tab algn="l" pos="727200"/>
                <a:tab algn="l" pos="1176480"/>
                <a:tab algn="l" pos="1625760"/>
                <a:tab algn="l" pos="2075040"/>
                <a:tab algn="l" pos="2523960"/>
                <a:tab algn="l" pos="2973240"/>
                <a:tab algn="l" pos="3422520"/>
                <a:tab algn="l" pos="3871800"/>
                <a:tab algn="l" pos="4321080"/>
                <a:tab algn="l" pos="4770360"/>
                <a:tab algn="l" pos="5219640"/>
                <a:tab algn="l" pos="5668920"/>
                <a:tab algn="l" pos="6118200"/>
                <a:tab algn="l" pos="6567480"/>
                <a:tab algn="l" pos="7016760"/>
                <a:tab algn="l" pos="7466040"/>
                <a:tab algn="l" pos="7915320"/>
                <a:tab algn="l" pos="8364600"/>
                <a:tab algn="l" pos="8813880"/>
                <a:tab algn="l" pos="9263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C" sz="1400" spc="-1" strike="noStrike">
                <a:solidFill>
                  <a:srgbClr val="000000"/>
                </a:solidFill>
                <a:latin typeface="Calibri"/>
              </a:rPr>
              <a:t>Administración por error del KCl a una velocidad superior a 10 mEq/h, lo que puede causar 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marL="285840" indent="-279360">
              <a:spcBef>
                <a:spcPts val="799"/>
              </a:spcBef>
              <a:tabLst>
                <a:tab algn="l" pos="0"/>
                <a:tab algn="l" pos="279360"/>
                <a:tab algn="l" pos="727200"/>
                <a:tab algn="l" pos="1176480"/>
                <a:tab algn="l" pos="1625760"/>
                <a:tab algn="l" pos="2075040"/>
                <a:tab algn="l" pos="2523960"/>
                <a:tab algn="l" pos="2973240"/>
                <a:tab algn="l" pos="3422520"/>
                <a:tab algn="l" pos="3871800"/>
                <a:tab algn="l" pos="4321080"/>
                <a:tab algn="l" pos="4770360"/>
                <a:tab algn="l" pos="5219640"/>
                <a:tab algn="l" pos="5668920"/>
                <a:tab algn="l" pos="6118200"/>
                <a:tab algn="l" pos="6567480"/>
                <a:tab algn="l" pos="7016760"/>
                <a:tab algn="l" pos="7466040"/>
                <a:tab algn="l" pos="7915320"/>
                <a:tab algn="l" pos="8364600"/>
                <a:tab algn="l" pos="8813880"/>
                <a:tab algn="l" pos="9263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C" sz="1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s-EC" sz="1400" spc="-1" strike="noStrike">
                <a:solidFill>
                  <a:srgbClr val="000000"/>
                </a:solidFill>
                <a:latin typeface="Calibri"/>
              </a:rPr>
              <a:t>paros cardíacos.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marL="279360" indent="-279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279360"/>
                <a:tab algn="l" pos="727200"/>
                <a:tab algn="l" pos="1176480"/>
                <a:tab algn="l" pos="1625760"/>
                <a:tab algn="l" pos="2075040"/>
                <a:tab algn="l" pos="2523960"/>
                <a:tab algn="l" pos="2973240"/>
                <a:tab algn="l" pos="3422520"/>
                <a:tab algn="l" pos="3871800"/>
                <a:tab algn="l" pos="4321080"/>
                <a:tab algn="l" pos="4770360"/>
                <a:tab algn="l" pos="5219640"/>
                <a:tab algn="l" pos="5668920"/>
                <a:tab algn="l" pos="6118200"/>
                <a:tab algn="l" pos="6567480"/>
                <a:tab algn="l" pos="7016760"/>
                <a:tab algn="l" pos="7466040"/>
                <a:tab algn="l" pos="7915320"/>
                <a:tab algn="l" pos="8364600"/>
                <a:tab algn="l" pos="8813880"/>
                <a:tab algn="l" pos="9263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C" sz="1400" spc="-1" strike="noStrike">
                <a:solidFill>
                  <a:srgbClr val="000000"/>
                </a:solidFill>
                <a:latin typeface="Calibri"/>
              </a:rPr>
              <a:t>Prescripción por “ampollas” o “viales” en lugar de utilizar unidades de cantidad (ej: mEq.)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marL="279360" indent="-279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279360"/>
                <a:tab algn="l" pos="727200"/>
                <a:tab algn="l" pos="1176480"/>
                <a:tab algn="l" pos="1625760"/>
                <a:tab algn="l" pos="2075040"/>
                <a:tab algn="l" pos="2523960"/>
                <a:tab algn="l" pos="2973240"/>
                <a:tab algn="l" pos="3422520"/>
                <a:tab algn="l" pos="3871800"/>
                <a:tab algn="l" pos="4321080"/>
                <a:tab algn="l" pos="4770360"/>
                <a:tab algn="l" pos="5219640"/>
                <a:tab algn="l" pos="5668920"/>
                <a:tab algn="l" pos="6118200"/>
                <a:tab algn="l" pos="6567480"/>
                <a:tab algn="l" pos="7016760"/>
                <a:tab algn="l" pos="7466040"/>
                <a:tab algn="l" pos="7915320"/>
                <a:tab algn="l" pos="8364600"/>
                <a:tab algn="l" pos="8813880"/>
                <a:tab algn="l" pos="9263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C" sz="1400" spc="-1" strike="noStrike">
                <a:solidFill>
                  <a:srgbClr val="000000"/>
                </a:solidFill>
                <a:latin typeface="Calibri"/>
              </a:rPr>
              <a:t>Programación incorrecta de las bombas de infusión.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marL="279360" indent="-279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279360"/>
                <a:tab algn="l" pos="727200"/>
                <a:tab algn="l" pos="1176480"/>
                <a:tab algn="l" pos="1625760"/>
                <a:tab algn="l" pos="2075040"/>
                <a:tab algn="l" pos="2523960"/>
                <a:tab algn="l" pos="2973240"/>
                <a:tab algn="l" pos="3422520"/>
                <a:tab algn="l" pos="3871800"/>
                <a:tab algn="l" pos="4321080"/>
                <a:tab algn="l" pos="4770360"/>
                <a:tab algn="l" pos="5219640"/>
                <a:tab algn="l" pos="5668920"/>
                <a:tab algn="l" pos="6118200"/>
                <a:tab algn="l" pos="6567480"/>
                <a:tab algn="l" pos="7016760"/>
                <a:tab algn="l" pos="7466040"/>
                <a:tab algn="l" pos="7915320"/>
                <a:tab algn="l" pos="8364600"/>
                <a:tab algn="l" pos="8813880"/>
                <a:tab algn="l" pos="9263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C" sz="1400" spc="-1" strike="noStrike">
                <a:solidFill>
                  <a:srgbClr val="000000"/>
                </a:solidFill>
                <a:latin typeface="Calibri"/>
              </a:rPr>
              <a:t>Errores en las diluciones cuando se manejan distintas concentraciones.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marL="285840" indent="-279360">
              <a:spcBef>
                <a:spcPts val="799"/>
              </a:spcBef>
              <a:tabLst>
                <a:tab algn="l" pos="0"/>
                <a:tab algn="l" pos="279360"/>
                <a:tab algn="l" pos="727200"/>
                <a:tab algn="l" pos="1176480"/>
                <a:tab algn="l" pos="1625760"/>
                <a:tab algn="l" pos="2075040"/>
                <a:tab algn="l" pos="2523960"/>
                <a:tab algn="l" pos="2973240"/>
                <a:tab algn="l" pos="3422520"/>
                <a:tab algn="l" pos="3871800"/>
                <a:tab algn="l" pos="4321080"/>
                <a:tab algn="l" pos="4770360"/>
                <a:tab algn="l" pos="5219640"/>
                <a:tab algn="l" pos="5668920"/>
                <a:tab algn="l" pos="6118200"/>
                <a:tab algn="l" pos="6567480"/>
                <a:tab algn="l" pos="7016760"/>
                <a:tab algn="l" pos="7466040"/>
                <a:tab algn="l" pos="7915320"/>
                <a:tab algn="l" pos="8364600"/>
                <a:tab algn="l" pos="8813880"/>
                <a:tab algn="l" pos="9263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marL="285840" indent="-279360">
              <a:spcBef>
                <a:spcPts val="799"/>
              </a:spcBef>
              <a:tabLst>
                <a:tab algn="l" pos="0"/>
                <a:tab algn="l" pos="279360"/>
                <a:tab algn="l" pos="727200"/>
                <a:tab algn="l" pos="1176480"/>
                <a:tab algn="l" pos="1625760"/>
                <a:tab algn="l" pos="2075040"/>
                <a:tab algn="l" pos="2523960"/>
                <a:tab algn="l" pos="2973240"/>
                <a:tab algn="l" pos="3422520"/>
                <a:tab algn="l" pos="3871800"/>
                <a:tab algn="l" pos="4321080"/>
                <a:tab algn="l" pos="4770360"/>
                <a:tab algn="l" pos="5219640"/>
                <a:tab algn="l" pos="5668920"/>
                <a:tab algn="l" pos="6118200"/>
                <a:tab algn="l" pos="6567480"/>
                <a:tab algn="l" pos="7016760"/>
                <a:tab algn="l" pos="7466040"/>
                <a:tab algn="l" pos="7915320"/>
                <a:tab algn="l" pos="8364600"/>
                <a:tab algn="l" pos="8813880"/>
                <a:tab algn="l" pos="9263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marL="285840" indent="-279360">
              <a:spcBef>
                <a:spcPts val="799"/>
              </a:spcBef>
              <a:tabLst>
                <a:tab algn="l" pos="0"/>
                <a:tab algn="l" pos="279360"/>
                <a:tab algn="l" pos="727200"/>
                <a:tab algn="l" pos="1176480"/>
                <a:tab algn="l" pos="1625760"/>
                <a:tab algn="l" pos="2075040"/>
                <a:tab algn="l" pos="2523960"/>
                <a:tab algn="l" pos="2973240"/>
                <a:tab algn="l" pos="3422520"/>
                <a:tab algn="l" pos="3871800"/>
                <a:tab algn="l" pos="4321080"/>
                <a:tab algn="l" pos="4770360"/>
                <a:tab algn="l" pos="5219640"/>
                <a:tab algn="l" pos="5668920"/>
                <a:tab algn="l" pos="6118200"/>
                <a:tab algn="l" pos="6567480"/>
                <a:tab algn="l" pos="7016760"/>
                <a:tab algn="l" pos="7466040"/>
                <a:tab algn="l" pos="7915320"/>
                <a:tab algn="l" pos="8364600"/>
                <a:tab algn="l" pos="8813880"/>
                <a:tab algn="l" pos="9263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marL="285840" indent="-279360">
              <a:spcBef>
                <a:spcPts val="799"/>
              </a:spcBef>
              <a:tabLst>
                <a:tab algn="l" pos="0"/>
                <a:tab algn="l" pos="279360"/>
                <a:tab algn="l" pos="727200"/>
                <a:tab algn="l" pos="1176480"/>
                <a:tab algn="l" pos="1625760"/>
                <a:tab algn="l" pos="2075040"/>
                <a:tab algn="l" pos="2523960"/>
                <a:tab algn="l" pos="2973240"/>
                <a:tab algn="l" pos="3422520"/>
                <a:tab algn="l" pos="3871800"/>
                <a:tab algn="l" pos="4321080"/>
                <a:tab algn="l" pos="4770360"/>
                <a:tab algn="l" pos="5219640"/>
                <a:tab algn="l" pos="5668920"/>
                <a:tab algn="l" pos="6118200"/>
                <a:tab algn="l" pos="6567480"/>
                <a:tab algn="l" pos="7016760"/>
                <a:tab algn="l" pos="7466040"/>
                <a:tab algn="l" pos="7915320"/>
                <a:tab algn="l" pos="8364600"/>
                <a:tab algn="l" pos="8813880"/>
                <a:tab algn="l" pos="9263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C" sz="1400" spc="-1" strike="noStrike">
                <a:solidFill>
                  <a:srgbClr val="000000"/>
                </a:solidFill>
                <a:latin typeface="Calibri"/>
              </a:rPr>
              <a:t>Fuente: Ministerio de Sanidad y Consumo de España.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" name=""/>
          <p:cNvSpPr/>
          <p:nvPr/>
        </p:nvSpPr>
        <p:spPr>
          <a:xfrm>
            <a:off x="1949400" y="1052640"/>
            <a:ext cx="703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C" sz="1800" spc="-1" strike="noStrike">
                <a:solidFill>
                  <a:srgbClr val="c00000"/>
                </a:solidFill>
                <a:latin typeface="Calibri"/>
              </a:rPr>
              <a:t>Errores </a:t>
            </a:r>
            <a:r>
              <a:rPr b="1" i="1" lang="es-EC" sz="1800" spc="-1" strike="noStrike">
                <a:solidFill>
                  <a:srgbClr val="c00000"/>
                </a:solidFill>
                <a:latin typeface="Calibri"/>
              </a:rPr>
              <a:t>comunes</a:t>
            </a:r>
            <a:r>
              <a:rPr b="1" lang="es-EC" sz="1800" spc="-1" strike="noStrike">
                <a:solidFill>
                  <a:srgbClr val="c00000"/>
                </a:solidFill>
                <a:latin typeface="Calibri"/>
              </a:rPr>
              <a:t>  detectados en la administración de cloruro de potasio: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287280" y="676440"/>
            <a:ext cx="8423280" cy="863280"/>
          </a:xfrm>
          <a:prstGeom prst="roundRect">
            <a:avLst>
              <a:gd name="adj" fmla="val 16667"/>
            </a:avLst>
          </a:prstGeom>
          <a:solidFill>
            <a:srgbClr val="729fcf"/>
          </a:solidFill>
          <a:ln cap="sq" w="9360">
            <a:solidFill>
              <a:srgbClr val="346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C" sz="1400" spc="-1" strike="noStrike">
                <a:solidFill>
                  <a:srgbClr val="000000"/>
                </a:solidFill>
                <a:latin typeface="Calibri"/>
              </a:rPr>
              <a:t>Los medicamentos que sean iguales pero de diferente dosificación, deben de ubicarse en 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C" sz="1400" spc="-1" strike="noStrike">
                <a:solidFill>
                  <a:srgbClr val="000000"/>
                </a:solidFill>
                <a:latin typeface="Calibri"/>
              </a:rPr>
              <a:t>Recipientes diferentes etiquetados con diferentes colores .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"/>
          <p:cNvSpPr/>
          <p:nvPr/>
        </p:nvSpPr>
        <p:spPr>
          <a:xfrm>
            <a:off x="287280" y="1666800"/>
            <a:ext cx="8423280" cy="863640"/>
          </a:xfrm>
          <a:prstGeom prst="roundRect">
            <a:avLst>
              <a:gd name="adj" fmla="val 16667"/>
            </a:avLst>
          </a:prstGeom>
          <a:solidFill>
            <a:srgbClr val="729fcf"/>
          </a:solidFill>
          <a:ln cap="sq" w="9360">
            <a:solidFill>
              <a:srgbClr val="346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C" sz="1400" spc="-1" strike="noStrike">
                <a:solidFill>
                  <a:srgbClr val="000000"/>
                </a:solidFill>
                <a:latin typeface="Calibri"/>
              </a:rPr>
              <a:t>Dentro del almacenamiento los medicamentos con nombres de principios activos parecidos, 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C" sz="1400" spc="-1" strike="noStrike">
                <a:solidFill>
                  <a:srgbClr val="000000"/>
                </a:solidFill>
                <a:latin typeface="Calibri"/>
              </a:rPr>
              <a:t>se escribirán el primer medicamento con mayúscula y el segundo con minúscula. Todas las 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C" sz="1400" spc="-1" strike="noStrike">
                <a:solidFill>
                  <a:srgbClr val="000000"/>
                </a:solidFill>
                <a:latin typeface="Calibri"/>
              </a:rPr>
              <a:t>etiquetas deben estar mirando hacia adelante para evitar confusiones.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360360" y="2952720"/>
            <a:ext cx="8423280" cy="382104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1180080" y="2584440"/>
            <a:ext cx="569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C" sz="1800" spc="-1" strike="noStrike">
                <a:solidFill>
                  <a:srgbClr val="c00000"/>
                </a:solidFill>
                <a:latin typeface="Calibri"/>
              </a:rPr>
              <a:t>Lista de medicamentos de alto riesgo x grupos terapéuticos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"/>
          <p:cNvSpPr/>
          <p:nvPr/>
        </p:nvSpPr>
        <p:spPr>
          <a:xfrm>
            <a:off x="468360" y="179280"/>
            <a:ext cx="59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C" sz="1800" spc="-1" strike="noStrike">
                <a:solidFill>
                  <a:srgbClr val="c00000"/>
                </a:solidFill>
                <a:latin typeface="Calibri"/>
              </a:rPr>
              <a:t>Medicamentos de alto riesgo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71280" y="260280"/>
            <a:ext cx="8461440" cy="3888000"/>
          </a:xfrm>
          <a:prstGeom prst="roundRect">
            <a:avLst>
              <a:gd name="adj" fmla="val 16667"/>
            </a:avLst>
          </a:prstGeom>
          <a:solidFill>
            <a:srgbClr val="729fcf"/>
          </a:solidFill>
          <a:ln cap="sq" w="9360">
            <a:solidFill>
              <a:srgbClr val="346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just"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s-EC" sz="1300" spc="-1" strike="noStrike">
                <a:solidFill>
                  <a:srgbClr val="c00000"/>
                </a:solidFill>
                <a:latin typeface="Calibri"/>
                <a:ea typeface="Arial"/>
              </a:rPr>
              <a:t>    </a:t>
            </a:r>
            <a:r>
              <a:rPr b="1" i="1" lang="es-EC" sz="1300" spc="-1" strike="noStrike">
                <a:solidFill>
                  <a:srgbClr val="c00000"/>
                </a:solidFill>
                <a:latin typeface="Calibri"/>
                <a:ea typeface="Arial"/>
              </a:rPr>
              <a:t>Medicamentos específicos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C" sz="1300" spc="-1" strike="noStrike">
                <a:solidFill>
                  <a:srgbClr val="000000"/>
                </a:solidFill>
                <a:latin typeface="Calibri"/>
                <a:ea typeface="Arial"/>
              </a:rPr>
              <a:t>- Cloruro de potasio IV (Solución concentrada)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C" sz="1300" spc="-1" strike="noStrike">
                <a:solidFill>
                  <a:srgbClr val="000000"/>
                </a:solidFill>
                <a:latin typeface="Calibri"/>
                <a:ea typeface="Arial"/>
              </a:rPr>
              <a:t>- Cloruro de sodio hipertónico (&gt; o = 0,9%)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C" sz="1300" spc="-1" strike="noStrike">
                <a:solidFill>
                  <a:srgbClr val="000000"/>
                </a:solidFill>
                <a:latin typeface="Calibri"/>
                <a:ea typeface="Arial"/>
              </a:rPr>
              <a:t>- Fosfato potásico IV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C" sz="1300" spc="-1" strike="noStrike">
                <a:solidFill>
                  <a:srgbClr val="000000"/>
                </a:solidFill>
                <a:latin typeface="Calibri"/>
                <a:ea typeface="Arial"/>
              </a:rPr>
              <a:t>- Insulina SC e IV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C" sz="1300" spc="-1" strike="noStrike">
                <a:solidFill>
                  <a:srgbClr val="000000"/>
                </a:solidFill>
                <a:latin typeface="Calibri"/>
                <a:ea typeface="Arial"/>
              </a:rPr>
              <a:t>- Metotrexato oral (uso no oncológico)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C" sz="1300" spc="-1" strike="noStrike">
                <a:solidFill>
                  <a:srgbClr val="000000"/>
                </a:solidFill>
                <a:latin typeface="Calibri"/>
                <a:ea typeface="Arial"/>
              </a:rPr>
              <a:t>- Nitroprusiato de Sodio IV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C" sz="1300" spc="-1" strike="noStrike">
                <a:solidFill>
                  <a:srgbClr val="000000"/>
                </a:solidFill>
                <a:latin typeface="Calibri"/>
                <a:ea typeface="Arial"/>
              </a:rPr>
              <a:t>- Oxitocina IV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C" sz="1300" spc="-1" strike="noStrike">
                <a:solidFill>
                  <a:srgbClr val="000000"/>
                </a:solidFill>
                <a:latin typeface="Calibri"/>
                <a:ea typeface="Arial"/>
              </a:rPr>
              <a:t>- Prometazina IV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C" sz="1300" spc="-1" strike="noStrike">
                <a:solidFill>
                  <a:srgbClr val="000000"/>
                </a:solidFill>
                <a:latin typeface="Calibri"/>
                <a:ea typeface="Arial"/>
              </a:rPr>
              <a:t>- Sulfato de magnesio IV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2303640" y="863640"/>
            <a:ext cx="4248000" cy="1008000"/>
          </a:xfrm>
          <a:prstGeom prst="roundRect">
            <a:avLst>
              <a:gd name="adj" fmla="val 16667"/>
            </a:avLst>
          </a:prstGeom>
          <a:solidFill>
            <a:srgbClr val="729fcf"/>
          </a:solidFill>
          <a:ln cap="sq"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C" sz="1800" spc="-1" strike="noStrike">
                <a:solidFill>
                  <a:srgbClr val="000000"/>
                </a:solidFill>
                <a:latin typeface="Calibri"/>
              </a:rPr>
              <a:t>ANTECEDENTES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60" name=""/>
          <p:cNvCxnSpPr>
            <a:stCxn id="59" idx="2"/>
          </p:cNvCxnSpPr>
          <p:nvPr/>
        </p:nvCxnSpPr>
        <p:spPr>
          <a:xfrm flipH="1">
            <a:off x="4425120" y="1871640"/>
            <a:ext cx="2520" cy="356400"/>
          </a:xfrm>
          <a:prstGeom prst="straightConnector1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900000" y="2227320"/>
            <a:ext cx="7415280" cy="4037040"/>
          </a:xfrm>
          <a:prstGeom prst="roundRect">
            <a:avLst>
              <a:gd name="adj" fmla="val 16667"/>
            </a:avLst>
          </a:prstGeom>
          <a:solidFill>
            <a:srgbClr val="729fcf"/>
          </a:solidFill>
          <a:ln cap="sq"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C" sz="1400" spc="-1" strike="noStrike">
                <a:solidFill>
                  <a:srgbClr val="000000"/>
                </a:solidFill>
                <a:latin typeface="Arial"/>
                <a:ea typeface="Arial"/>
              </a:rPr>
              <a:t>Los errores de medicación y sus consecuencias negativas, los acontecimiento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C" sz="1400" spc="-1" strike="noStrike">
                <a:solidFill>
                  <a:srgbClr val="000000"/>
                </a:solidFill>
                <a:latin typeface="Arial"/>
                <a:ea typeface="Arial"/>
              </a:rPr>
              <a:t>adversos por medicamentos prevenibles constituyen en la actualidad una grav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C" sz="1400" spc="-1" strike="noStrike">
                <a:solidFill>
                  <a:srgbClr val="000000"/>
                </a:solidFill>
                <a:latin typeface="Arial"/>
                <a:ea typeface="Arial"/>
              </a:rPr>
              <a:t>problema de salud, con repercusiones asistenciales, económico y desconfianza 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C" sz="1400" spc="-1" strike="noStrike">
                <a:solidFill>
                  <a:srgbClr val="000000"/>
                </a:solidFill>
                <a:latin typeface="Arial"/>
                <a:ea typeface="Arial"/>
              </a:rPr>
              <a:t>en el sistema.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C" sz="1400" spc="-1" strike="noStrike">
                <a:solidFill>
                  <a:srgbClr val="000000"/>
                </a:solidFill>
                <a:latin typeface="Arial"/>
                <a:ea typeface="Arial"/>
              </a:rPr>
              <a:t>Se estima que los errores de medicación son responsables de una de cada 854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C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s-EC" sz="1400" spc="-1" strike="noStrike">
                <a:solidFill>
                  <a:srgbClr val="000000"/>
                </a:solidFill>
                <a:latin typeface="Arial"/>
                <a:ea typeface="Arial"/>
              </a:rPr>
              <a:t>muertes en pacientes hospitalizados y de una de cada 131 muertes en paciente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C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s-EC" sz="1400" spc="-1" strike="noStrike">
                <a:solidFill>
                  <a:srgbClr val="000000"/>
                </a:solidFill>
                <a:latin typeface="Arial"/>
                <a:ea typeface="Arial"/>
              </a:rPr>
              <a:t>ambulatorios.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C" sz="1400" spc="-1" strike="noStrike">
                <a:solidFill>
                  <a:srgbClr val="000000"/>
                </a:solidFill>
                <a:latin typeface="Arial"/>
                <a:ea typeface="Arial"/>
              </a:rPr>
              <a:t>Los errores asociados a la medicación pueden motivar a un 5% de los ingreso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C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s-EC" sz="1400" spc="-1" strike="noStrike">
                <a:solidFill>
                  <a:srgbClr val="000000"/>
                </a:solidFill>
                <a:latin typeface="Arial"/>
                <a:ea typeface="Arial"/>
              </a:rPr>
              <a:t>Hospitalarios o de alargamiento de la misma.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C" sz="1400" spc="-1" strike="noStrike">
                <a:solidFill>
                  <a:srgbClr val="000000"/>
                </a:solidFill>
                <a:latin typeface="Arial"/>
                <a:ea typeface="Arial"/>
              </a:rPr>
              <a:t>Se ha estimado que el índice de errores de medicación en varios estudios e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C" sz="1400" spc="-1" strike="noStrike">
                <a:solidFill>
                  <a:srgbClr val="000000"/>
                </a:solidFill>
                <a:latin typeface="Arial"/>
                <a:ea typeface="Arial"/>
              </a:rPr>
              <a:t>aproximadamente el 13%, de los cuales podrían ser prevenibles el 90% mediantes 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C" sz="1400" spc="-1" strike="noStrike">
                <a:solidFill>
                  <a:srgbClr val="000000"/>
                </a:solidFill>
                <a:latin typeface="Arial"/>
                <a:ea typeface="Arial"/>
              </a:rPr>
              <a:t>sistemas de detección y control.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C" sz="1400" spc="-1" strike="noStrike">
                <a:solidFill>
                  <a:srgbClr val="000000"/>
                </a:solidFill>
                <a:latin typeface="Arial"/>
                <a:ea typeface="Arial"/>
              </a:rPr>
              <a:t>Dentro de las causas más frecuentes están los factores humanos con un 56% y 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C" sz="1400" spc="-1" strike="noStrike">
                <a:solidFill>
                  <a:srgbClr val="000000"/>
                </a:solidFill>
                <a:latin typeface="Arial"/>
                <a:ea typeface="Arial"/>
              </a:rPr>
              <a:t>dentro del tipo más frecuente detectado es el medicamento erróneo y la dosi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C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s-EC" sz="1400" spc="-1" strike="noStrike">
                <a:solidFill>
                  <a:srgbClr val="000000"/>
                </a:solidFill>
                <a:latin typeface="Arial"/>
                <a:ea typeface="Arial"/>
              </a:rPr>
              <a:t>incorrecta con una ocurrencia de 34% y 28% respectivamente.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C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384720" y="144360"/>
            <a:ext cx="2232000" cy="1800360"/>
          </a:xfrm>
          <a:prstGeom prst="diamond">
            <a:avLst/>
          </a:prstGeom>
          <a:solidFill>
            <a:srgbClr val="729fcf"/>
          </a:solidFill>
          <a:ln cap="sq"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C" sz="1800" spc="-1" strike="noStrike">
                <a:solidFill>
                  <a:srgbClr val="000000"/>
                </a:solidFill>
                <a:latin typeface="Calibri"/>
              </a:rPr>
              <a:t>PROPOSITO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63" name=""/>
          <p:cNvCxnSpPr>
            <a:stCxn id="62" idx="2"/>
            <a:endCxn id="64" idx="0"/>
          </p:cNvCxnSpPr>
          <p:nvPr/>
        </p:nvCxnSpPr>
        <p:spPr>
          <a:xfrm flipH="1">
            <a:off x="4498200" y="1944720"/>
            <a:ext cx="2520" cy="467280"/>
          </a:xfrm>
          <a:prstGeom prst="straightConnector1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1871640" y="2411280"/>
            <a:ext cx="5256360" cy="1187640"/>
          </a:xfrm>
          <a:prstGeom prst="ellipse">
            <a:avLst/>
          </a:prstGeom>
          <a:solidFill>
            <a:srgbClr val="cfe7f5"/>
          </a:solidFill>
          <a:ln cap="sq"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C" sz="1400" spc="-1" strike="noStrike">
                <a:solidFill>
                  <a:srgbClr val="000000"/>
                </a:solidFill>
                <a:latin typeface="Calibri"/>
              </a:rPr>
              <a:t>Almacenar los concentrados de electrolitos lejo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C" sz="1400" spc="-1" strike="noStrike">
                <a:solidFill>
                  <a:srgbClr val="000000"/>
                </a:solidFill>
                <a:latin typeface="Calibri"/>
              </a:rPr>
              <a:t>de las áreas de atención al client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65" name=""/>
          <p:cNvCxnSpPr>
            <a:stCxn id="64" idx="4"/>
          </p:cNvCxnSpPr>
          <p:nvPr/>
        </p:nvCxnSpPr>
        <p:spPr>
          <a:xfrm>
            <a:off x="4498560" y="3598920"/>
            <a:ext cx="3960" cy="581400"/>
          </a:xfrm>
          <a:prstGeom prst="straightConnector1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6" name=""/>
          <p:cNvSpPr/>
          <p:nvPr/>
        </p:nvSpPr>
        <p:spPr>
          <a:xfrm>
            <a:off x="2916360" y="4176720"/>
            <a:ext cx="3168360" cy="720720"/>
          </a:xfrm>
          <a:prstGeom prst="rect">
            <a:avLst/>
          </a:prstGeom>
          <a:solidFill>
            <a:srgbClr val="729fcf"/>
          </a:solidFill>
          <a:ln cap="sq"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C" sz="1800" spc="-1" strike="noStrike">
                <a:solidFill>
                  <a:srgbClr val="000000"/>
                </a:solidFill>
                <a:latin typeface="Calibri"/>
              </a:rPr>
              <a:t>ALCANC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67" name=""/>
          <p:cNvCxnSpPr>
            <a:stCxn id="66" idx="2"/>
          </p:cNvCxnSpPr>
          <p:nvPr/>
        </p:nvCxnSpPr>
        <p:spPr>
          <a:xfrm>
            <a:off x="4500720" y="4897440"/>
            <a:ext cx="19440" cy="496080"/>
          </a:xfrm>
          <a:prstGeom prst="straightConnector1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8" name=""/>
          <p:cNvSpPr/>
          <p:nvPr/>
        </p:nvSpPr>
        <p:spPr>
          <a:xfrm>
            <a:off x="2879640" y="5400720"/>
            <a:ext cx="3311640" cy="1295280"/>
          </a:xfrm>
          <a:prstGeom prst="pie">
            <a:avLst/>
          </a:prstGeom>
          <a:solidFill>
            <a:srgbClr val="cfe7f5"/>
          </a:solidFill>
          <a:ln cap="sq"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C" sz="1400" spc="-1" strike="noStrike">
                <a:solidFill>
                  <a:srgbClr val="000000"/>
                </a:solidFill>
                <a:latin typeface="Calibri"/>
              </a:rPr>
              <a:t>Esta norma debe ser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C" sz="1400" spc="-1" strike="noStrike">
                <a:solidFill>
                  <a:srgbClr val="000000"/>
                </a:solidFill>
                <a:latin typeface="Calibri"/>
              </a:rPr>
              <a:t>aplicada en los servicio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C" sz="1400" spc="-1" strike="noStrike">
                <a:solidFill>
                  <a:srgbClr val="000000"/>
                </a:solidFill>
                <a:latin typeface="Calibri"/>
              </a:rPr>
              <a:t>donde se atienden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C" sz="1400" spc="-1" strike="noStrike">
                <a:solidFill>
                  <a:srgbClr val="000000"/>
                </a:solidFill>
                <a:latin typeface="Calibri"/>
              </a:rPr>
              <a:t>pacientes.</a:t>
            </a:r>
            <a:r>
              <a:rPr b="0" lang="es-EC" sz="13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024360" y="539640"/>
            <a:ext cx="2734920" cy="720720"/>
          </a:xfrm>
          <a:prstGeom prst="octagon">
            <a:avLst>
              <a:gd name="adj" fmla="val 23148"/>
            </a:avLst>
          </a:prstGeom>
          <a:solidFill>
            <a:srgbClr val="729fcf"/>
          </a:solidFill>
          <a:ln cap="sq"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C" sz="1800" spc="-1" strike="noStrike">
                <a:solidFill>
                  <a:srgbClr val="000000"/>
                </a:solidFill>
                <a:latin typeface="Calibri"/>
              </a:rPr>
              <a:t>RESPONSABILIDADES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" name=""/>
          <p:cNvSpPr/>
          <p:nvPr/>
        </p:nvSpPr>
        <p:spPr>
          <a:xfrm>
            <a:off x="936720" y="1908000"/>
            <a:ext cx="3095640" cy="1008360"/>
          </a:xfrm>
          <a:custGeom>
            <a:avLst/>
            <a:gdLst>
              <a:gd name="textAreaLeft" fmla="*/ 118800 w 3095640"/>
              <a:gd name="textAreaRight" fmla="*/ 2976840 w 3095640"/>
              <a:gd name="textAreaTop" fmla="*/ 118800 h 1008360"/>
              <a:gd name="textAreaBottom" fmla="*/ 889560 h 1008360"/>
            </a:gdLst>
            <a:ahLst/>
            <a:rect l="textAreaLeft" t="textAreaTop" r="textAreaRight" b="textAreaBottom"/>
            <a:pathLst>
              <a:path w="66296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62696" y="21600"/>
                </a:lnTo>
                <a:arcTo wR="3600" hR="3600" stAng="10800000" swAng="5400000"/>
                <a:lnTo>
                  <a:pt x="66296" y="3600"/>
                </a:lnTo>
                <a:arcTo wR="3600" hR="3600" stAng="5400000" swAng="5400000"/>
                <a:close/>
              </a:path>
            </a:pathLst>
          </a:custGeom>
          <a:solidFill>
            <a:srgbClr val="cfe7f5"/>
          </a:solidFill>
          <a:ln cap="sq"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C" sz="1800" spc="-1" strike="noStrike">
                <a:solidFill>
                  <a:srgbClr val="000000"/>
                </a:solidFill>
                <a:latin typeface="Calibri"/>
              </a:rPr>
              <a:t>Cumplir POR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"/>
          <p:cNvSpPr/>
          <p:nvPr/>
        </p:nvSpPr>
        <p:spPr>
          <a:xfrm>
            <a:off x="4535640" y="1871640"/>
            <a:ext cx="3384360" cy="1079640"/>
          </a:xfrm>
          <a:custGeom>
            <a:avLst/>
            <a:gdLst>
              <a:gd name="textAreaLeft" fmla="*/ 127080 w 3384360"/>
              <a:gd name="textAreaRight" fmla="*/ 3257280 w 3384360"/>
              <a:gd name="textAreaTop" fmla="*/ 127080 h 1079640"/>
              <a:gd name="textAreaBottom" fmla="*/ 952560 h 1079640"/>
            </a:gdLst>
            <a:ahLst/>
            <a:rect l="textAreaLeft" t="textAreaTop" r="textAreaRight" b="textAreaBottom"/>
            <a:pathLst>
              <a:path w="67694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64094" y="21600"/>
                </a:lnTo>
                <a:arcTo wR="3600" hR="3600" stAng="10800000" swAng="5400000"/>
                <a:lnTo>
                  <a:pt x="67694" y="3600"/>
                </a:lnTo>
                <a:arcTo wR="3600" hR="3600" stAng="5400000" swAng="5400000"/>
                <a:close/>
              </a:path>
            </a:pathLst>
          </a:custGeom>
          <a:solidFill>
            <a:srgbClr val="cfe7f5"/>
          </a:solidFill>
          <a:ln cap="sq"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C" sz="1800" spc="-1" strike="noStrike">
                <a:solidFill>
                  <a:srgbClr val="000000"/>
                </a:solidFill>
                <a:latin typeface="Calibri"/>
              </a:rPr>
              <a:t>Supervisar el Cumplimiento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C" sz="1800" spc="-1" strike="noStrike">
                <a:solidFill>
                  <a:srgbClr val="000000"/>
                </a:solidFill>
                <a:latin typeface="Calibri"/>
              </a:rPr>
              <a:t>del POR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"/>
          <p:cNvSpPr/>
          <p:nvPr/>
        </p:nvSpPr>
        <p:spPr>
          <a:xfrm>
            <a:off x="5075280" y="3887640"/>
            <a:ext cx="2340000" cy="2160720"/>
          </a:xfrm>
          <a:prstGeom prst="verticalScroll">
            <a:avLst>
              <a:gd name="adj" fmla="val 12500"/>
            </a:avLst>
          </a:prstGeom>
          <a:solidFill>
            <a:srgbClr val="cfe7f5"/>
          </a:solidFill>
          <a:ln cap="sq"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just">
              <a:buClr>
                <a:srgbClr val="000000"/>
              </a:buClr>
              <a:buSzPct val="45000"/>
              <a:buFont typeface="Wingdings" charset="2"/>
              <a:buChar char="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C" sz="1800" spc="-1" strike="noStrike">
                <a:solidFill>
                  <a:srgbClr val="000000"/>
                </a:solidFill>
                <a:latin typeface="Calibri"/>
              </a:rPr>
              <a:t>Médicos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SzPct val="45000"/>
              <a:buFont typeface="Wingdings" charset="2"/>
              <a:buChar char="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C" sz="1800" spc="-1" strike="noStrike">
                <a:solidFill>
                  <a:srgbClr val="000000"/>
                </a:solidFill>
                <a:latin typeface="Calibri"/>
              </a:rPr>
              <a:t>Enfermeras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SzPct val="45000"/>
              <a:buFont typeface="Wingdings" charset="2"/>
              <a:buChar char="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C" sz="1800" spc="-1" strike="noStrike">
                <a:solidFill>
                  <a:srgbClr val="000000"/>
                </a:solidFill>
                <a:latin typeface="Calibri"/>
              </a:rPr>
              <a:t>Farmacéuticos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"/>
          <p:cNvSpPr/>
          <p:nvPr/>
        </p:nvSpPr>
        <p:spPr>
          <a:xfrm>
            <a:off x="684360" y="3132000"/>
            <a:ext cx="4140000" cy="3600720"/>
          </a:xfrm>
          <a:prstGeom prst="horizontalScroll">
            <a:avLst>
              <a:gd name="adj" fmla="val 12500"/>
            </a:avLst>
          </a:prstGeom>
          <a:solidFill>
            <a:srgbClr val="cfe7f5"/>
          </a:solidFill>
          <a:ln cap="sq"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just">
              <a:tabLst>
                <a:tab algn="l" pos="0"/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8956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69400"/>
                <a:tab algn="l" pos="9418680"/>
                <a:tab algn="l" pos="9867960"/>
                <a:tab algn="l" pos="10321920"/>
                <a:tab algn="l" pos="10779120"/>
                <a:tab algn="l" pos="10780560"/>
                <a:tab algn="l" pos="10782360"/>
              </a:tabLst>
            </a:pPr>
            <a:r>
              <a:rPr b="0" lang="es-EC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C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C" sz="1800" spc="-1" strike="noStrike">
                <a:solidFill>
                  <a:srgbClr val="000000"/>
                </a:solidFill>
                <a:latin typeface="Calibri"/>
              </a:rPr>
              <a:t>Todo  el personal: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tabLst>
                <a:tab algn="l" pos="0"/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8956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69400"/>
                <a:tab algn="l" pos="9418680"/>
                <a:tab algn="l" pos="9867960"/>
                <a:tab algn="l" pos="10321920"/>
                <a:tab algn="l" pos="10779120"/>
                <a:tab algn="l" pos="1078056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1" marL="725400" indent="-268200" algn="just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0"/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8956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69400"/>
                <a:tab algn="l" pos="9418680"/>
                <a:tab algn="l" pos="9867960"/>
                <a:tab algn="l" pos="10321920"/>
                <a:tab algn="l" pos="10779120"/>
                <a:tab algn="l" pos="10780560"/>
                <a:tab algn="l" pos="10782360"/>
              </a:tabLst>
            </a:pPr>
            <a:r>
              <a:rPr b="0" lang="es-EC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Que brinde atención en salud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1" marL="725400" indent="-268200" algn="just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0"/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8956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69400"/>
                <a:tab algn="l" pos="9418680"/>
                <a:tab algn="l" pos="9867960"/>
                <a:tab algn="l" pos="10321920"/>
                <a:tab algn="l" pos="10779120"/>
                <a:tab algn="l" pos="10780560"/>
                <a:tab algn="l" pos="10782360"/>
              </a:tabLst>
            </a:pPr>
            <a:r>
              <a:rPr b="0" lang="es-EC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Antes de dispensar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1" marL="725400" indent="-268200" algn="just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0"/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8956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69400"/>
                <a:tab algn="l" pos="9418680"/>
                <a:tab algn="l" pos="9867960"/>
                <a:tab algn="l" pos="10321920"/>
                <a:tab algn="l" pos="10779120"/>
                <a:tab algn="l" pos="10780560"/>
                <a:tab algn="l" pos="10782360"/>
              </a:tabLst>
            </a:pPr>
            <a:r>
              <a:rPr b="0" lang="es-EC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Que participe en  preparar y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1" marL="725400" indent="-268200" algn="just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0"/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8956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69400"/>
                <a:tab algn="l" pos="9418680"/>
                <a:tab algn="l" pos="9867960"/>
                <a:tab algn="l" pos="10321920"/>
                <a:tab algn="l" pos="10779120"/>
                <a:tab algn="l" pos="10780560"/>
                <a:tab algn="l" pos="10782360"/>
              </a:tabLst>
            </a:pPr>
            <a:r>
              <a:rPr b="0" lang="es-EC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Administrar los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1" marL="731880" indent="-268200" algn="just">
              <a:lnSpc>
                <a:spcPct val="100000"/>
              </a:lnSpc>
              <a:tabLst>
                <a:tab algn="l" pos="0"/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8956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8969400"/>
                <a:tab algn="l" pos="9418680"/>
                <a:tab algn="l" pos="9867960"/>
                <a:tab algn="l" pos="10321920"/>
                <a:tab algn="l" pos="10779120"/>
                <a:tab algn="l" pos="10780560"/>
                <a:tab algn="l" pos="10782360"/>
              </a:tabLst>
            </a:pPr>
            <a:r>
              <a:rPr b="0" lang="es-EC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medicamentos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74" name=""/>
          <p:cNvCxnSpPr>
            <a:stCxn id="69" idx="2"/>
            <a:endCxn id="70" idx="0"/>
          </p:cNvCxnSpPr>
          <p:nvPr/>
        </p:nvCxnSpPr>
        <p:spPr>
          <a:xfrm flipH="1">
            <a:off x="1441080" y="1260000"/>
            <a:ext cx="1944000" cy="648360"/>
          </a:xfrm>
          <a:prstGeom prst="straightConnector1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9" idx="2"/>
            <a:endCxn id="71" idx="0"/>
          </p:cNvCxnSpPr>
          <p:nvPr/>
        </p:nvCxnSpPr>
        <p:spPr>
          <a:xfrm>
            <a:off x="3384720" y="1260360"/>
            <a:ext cx="1691280" cy="612000"/>
          </a:xfrm>
          <a:prstGeom prst="straightConnector1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" name=""/>
          <p:cNvSpPr/>
          <p:nvPr/>
        </p:nvSpPr>
        <p:spPr>
          <a:xfrm>
            <a:off x="2448000" y="2916360"/>
            <a:ext cx="1440" cy="68256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"/>
          <p:cNvSpPr/>
          <p:nvPr/>
        </p:nvSpPr>
        <p:spPr>
          <a:xfrm>
            <a:off x="6335640" y="2951280"/>
            <a:ext cx="1800" cy="93636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971640" y="1092240"/>
            <a:ext cx="3257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C" sz="1800" spc="-1" strike="noStrike">
                <a:solidFill>
                  <a:srgbClr val="ff3333"/>
                </a:solidFill>
                <a:latin typeface="Calibri"/>
              </a:rPr>
              <a:t>OBJETIVOS: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"/>
          <p:cNvSpPr/>
          <p:nvPr/>
        </p:nvSpPr>
        <p:spPr>
          <a:xfrm>
            <a:off x="749160" y="1943280"/>
            <a:ext cx="760284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marL="209520" indent="-209520" algn="just">
              <a:buSzPct val="100000"/>
              <a:buBlip>
                <a:blip r:embed="rId2"/>
              </a:buBlip>
              <a:tabLst>
                <a:tab algn="l" pos="209520"/>
                <a:tab algn="l" pos="657360"/>
                <a:tab algn="l" pos="1106640"/>
                <a:tab algn="l" pos="1555920"/>
                <a:tab algn="l" pos="2004840"/>
                <a:tab algn="l" pos="2454120"/>
                <a:tab algn="l" pos="2903400"/>
                <a:tab algn="l" pos="3352680"/>
                <a:tab algn="l" pos="3801960"/>
                <a:tab algn="l" pos="4251240"/>
                <a:tab algn="l" pos="4700520"/>
                <a:tab algn="l" pos="5149800"/>
                <a:tab algn="l" pos="5599080"/>
                <a:tab algn="l" pos="6048360"/>
                <a:tab algn="l" pos="6497640"/>
                <a:tab algn="l" pos="6946920"/>
                <a:tab algn="l" pos="7396200"/>
                <a:tab algn="l" pos="7845480"/>
                <a:tab algn="l" pos="8294760"/>
                <a:tab algn="l" pos="8744040"/>
                <a:tab algn="l" pos="91933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C" sz="1600" spc="-1" strike="noStrike">
                <a:solidFill>
                  <a:srgbClr val="000000"/>
                </a:solidFill>
                <a:latin typeface="Calibri"/>
              </a:rPr>
              <a:t>Mejorar la seguridad de los medicamentos de alto riesgo y electrolitos 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209520" indent="-209520" algn="just">
              <a:buClr>
                <a:srgbClr val="ffffff"/>
              </a:buClr>
              <a:buFont typeface="Arial"/>
              <a:buChar char="•"/>
              <a:tabLst>
                <a:tab algn="l" pos="209520"/>
                <a:tab algn="l" pos="657360"/>
                <a:tab algn="l" pos="1106640"/>
                <a:tab algn="l" pos="1555920"/>
                <a:tab algn="l" pos="2004840"/>
                <a:tab algn="l" pos="2454120"/>
                <a:tab algn="l" pos="2903400"/>
                <a:tab algn="l" pos="3352680"/>
                <a:tab algn="l" pos="3801960"/>
                <a:tab algn="l" pos="4251240"/>
                <a:tab algn="l" pos="4700520"/>
                <a:tab algn="l" pos="5149800"/>
                <a:tab algn="l" pos="5599080"/>
                <a:tab algn="l" pos="6048360"/>
                <a:tab algn="l" pos="6497640"/>
                <a:tab algn="l" pos="6946920"/>
                <a:tab algn="l" pos="7396200"/>
                <a:tab algn="l" pos="7845480"/>
                <a:tab algn="l" pos="8294760"/>
                <a:tab algn="l" pos="8744040"/>
                <a:tab algn="l" pos="91933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C" sz="1600" spc="-1" strike="noStrike">
                <a:solidFill>
                  <a:srgbClr val="000000"/>
                </a:solidFill>
                <a:latin typeface="Calibri"/>
              </a:rPr>
              <a:t>Concentrados garantizando la seguridad del paciente.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209520" indent="-209520" algn="just">
              <a:buSzPct val="100000"/>
              <a:buBlip>
                <a:blip r:embed="rId3"/>
              </a:buBlip>
              <a:tabLst>
                <a:tab algn="l" pos="209520"/>
                <a:tab algn="l" pos="657360"/>
                <a:tab algn="l" pos="1106640"/>
                <a:tab algn="l" pos="1555920"/>
                <a:tab algn="l" pos="2004840"/>
                <a:tab algn="l" pos="2454120"/>
                <a:tab algn="l" pos="2903400"/>
                <a:tab algn="l" pos="3352680"/>
                <a:tab algn="l" pos="3801960"/>
                <a:tab algn="l" pos="4251240"/>
                <a:tab algn="l" pos="4700520"/>
                <a:tab algn="l" pos="5149800"/>
                <a:tab algn="l" pos="5599080"/>
                <a:tab algn="l" pos="6048360"/>
                <a:tab algn="l" pos="6497640"/>
                <a:tab algn="l" pos="6946920"/>
                <a:tab algn="l" pos="7396200"/>
                <a:tab algn="l" pos="7845480"/>
                <a:tab algn="l" pos="8294760"/>
                <a:tab algn="l" pos="8744040"/>
                <a:tab algn="l" pos="91933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C" sz="1600" spc="-1" strike="noStrike">
                <a:solidFill>
                  <a:srgbClr val="000000"/>
                </a:solidFill>
                <a:latin typeface="Calibri"/>
              </a:rPr>
              <a:t>Establecer y difundir una relación con los medicamentos de alto riesgo 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209520" indent="-209520" algn="just">
              <a:buClr>
                <a:srgbClr val="ffffff"/>
              </a:buClr>
              <a:buFont typeface="Arial"/>
              <a:buChar char="•"/>
              <a:tabLst>
                <a:tab algn="l" pos="209520"/>
                <a:tab algn="l" pos="657360"/>
                <a:tab algn="l" pos="1106640"/>
                <a:tab algn="l" pos="1555920"/>
                <a:tab algn="l" pos="2004840"/>
                <a:tab algn="l" pos="2454120"/>
                <a:tab algn="l" pos="2903400"/>
                <a:tab algn="l" pos="3352680"/>
                <a:tab algn="l" pos="3801960"/>
                <a:tab algn="l" pos="4251240"/>
                <a:tab algn="l" pos="4700520"/>
                <a:tab algn="l" pos="5149800"/>
                <a:tab algn="l" pos="5599080"/>
                <a:tab algn="l" pos="6048360"/>
                <a:tab algn="l" pos="6497640"/>
                <a:tab algn="l" pos="6946920"/>
                <a:tab algn="l" pos="7396200"/>
                <a:tab algn="l" pos="7845480"/>
                <a:tab algn="l" pos="8294760"/>
                <a:tab algn="l" pos="8744040"/>
                <a:tab algn="l" pos="91933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C" sz="1600" spc="-1" strike="noStrike">
                <a:solidFill>
                  <a:srgbClr val="000000"/>
                </a:solidFill>
                <a:latin typeface="Calibri"/>
              </a:rPr>
              <a:t>disponibles en la institución.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209520" indent="-209520" algn="just">
              <a:buSzPct val="100000"/>
              <a:buBlip>
                <a:blip r:embed="rId4"/>
              </a:buBlip>
              <a:tabLst>
                <a:tab algn="l" pos="209520"/>
                <a:tab algn="l" pos="657360"/>
                <a:tab algn="l" pos="1106640"/>
                <a:tab algn="l" pos="1555920"/>
                <a:tab algn="l" pos="2004840"/>
                <a:tab algn="l" pos="2454120"/>
                <a:tab algn="l" pos="2903400"/>
                <a:tab algn="l" pos="3352680"/>
                <a:tab algn="l" pos="3801960"/>
                <a:tab algn="l" pos="4251240"/>
                <a:tab algn="l" pos="4700520"/>
                <a:tab algn="l" pos="5149800"/>
                <a:tab algn="l" pos="5599080"/>
                <a:tab algn="l" pos="6048360"/>
                <a:tab algn="l" pos="6497640"/>
                <a:tab algn="l" pos="6946920"/>
                <a:tab algn="l" pos="7396200"/>
                <a:tab algn="l" pos="7845480"/>
                <a:tab algn="l" pos="8294760"/>
                <a:tab algn="l" pos="8744040"/>
                <a:tab algn="l" pos="91933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C" sz="1600" spc="-1" strike="noStrike">
                <a:solidFill>
                  <a:srgbClr val="000000"/>
                </a:solidFill>
                <a:latin typeface="Calibri"/>
              </a:rPr>
              <a:t>Estandarizar su prescripción, almacenamiento, preparación y administración.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209520" indent="-209520" algn="just">
              <a:buSzPct val="100000"/>
              <a:buBlip>
                <a:blip r:embed="rId5"/>
              </a:buBlip>
              <a:tabLst>
                <a:tab algn="l" pos="209520"/>
                <a:tab algn="l" pos="657360"/>
                <a:tab algn="l" pos="1106640"/>
                <a:tab algn="l" pos="1555920"/>
                <a:tab algn="l" pos="2004840"/>
                <a:tab algn="l" pos="2454120"/>
                <a:tab algn="l" pos="2903400"/>
                <a:tab algn="l" pos="3352680"/>
                <a:tab algn="l" pos="3801960"/>
                <a:tab algn="l" pos="4251240"/>
                <a:tab algn="l" pos="4700520"/>
                <a:tab algn="l" pos="5149800"/>
                <a:tab algn="l" pos="5599080"/>
                <a:tab algn="l" pos="6048360"/>
                <a:tab algn="l" pos="6497640"/>
                <a:tab algn="l" pos="6946920"/>
                <a:tab algn="l" pos="7396200"/>
                <a:tab algn="l" pos="7845480"/>
                <a:tab algn="l" pos="8294760"/>
                <a:tab algn="l" pos="8744040"/>
                <a:tab algn="l" pos="91933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C" sz="1600" spc="-1" strike="noStrike">
                <a:solidFill>
                  <a:srgbClr val="000000"/>
                </a:solidFill>
                <a:latin typeface="Calibri"/>
              </a:rPr>
              <a:t>Limitar el número de presentaciones y concentraciones disponibles, 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216000" indent="-209520" algn="just">
              <a:tabLst>
                <a:tab algn="l" pos="0"/>
                <a:tab algn="l" pos="209520"/>
                <a:tab algn="l" pos="657360"/>
                <a:tab algn="l" pos="1106640"/>
                <a:tab algn="l" pos="1555920"/>
                <a:tab algn="l" pos="2004840"/>
                <a:tab algn="l" pos="2454120"/>
                <a:tab algn="l" pos="2903400"/>
                <a:tab algn="l" pos="3352680"/>
                <a:tab algn="l" pos="3801960"/>
                <a:tab algn="l" pos="4251240"/>
                <a:tab algn="l" pos="4700520"/>
                <a:tab algn="l" pos="5149800"/>
                <a:tab algn="l" pos="5599080"/>
                <a:tab algn="l" pos="6048360"/>
                <a:tab algn="l" pos="6497640"/>
                <a:tab algn="l" pos="6946920"/>
                <a:tab algn="l" pos="7396200"/>
                <a:tab algn="l" pos="7845480"/>
                <a:tab algn="l" pos="8294760"/>
                <a:tab algn="l" pos="8744040"/>
                <a:tab algn="l" pos="91933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C" sz="1600" spc="-1" strike="noStrike">
                <a:solidFill>
                  <a:srgbClr val="000000"/>
                </a:solidFill>
                <a:latin typeface="Calibri"/>
              </a:rPr>
              <a:t>particularmente electrolitos concentrados, heparina, morfina, insulinas.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209520" indent="-209520" algn="just">
              <a:buSzPct val="100000"/>
              <a:buBlip>
                <a:blip r:embed="rId6"/>
              </a:buBlip>
              <a:tabLst>
                <a:tab algn="l" pos="209520"/>
                <a:tab algn="l" pos="657360"/>
                <a:tab algn="l" pos="1106640"/>
                <a:tab algn="l" pos="1555920"/>
                <a:tab algn="l" pos="2004840"/>
                <a:tab algn="l" pos="2454120"/>
                <a:tab algn="l" pos="2903400"/>
                <a:tab algn="l" pos="3352680"/>
                <a:tab algn="l" pos="3801960"/>
                <a:tab algn="l" pos="4251240"/>
                <a:tab algn="l" pos="4700520"/>
                <a:tab algn="l" pos="5149800"/>
                <a:tab algn="l" pos="5599080"/>
                <a:tab algn="l" pos="6048360"/>
                <a:tab algn="l" pos="6497640"/>
                <a:tab algn="l" pos="6946920"/>
                <a:tab algn="l" pos="7396200"/>
                <a:tab algn="l" pos="7845480"/>
                <a:tab algn="l" pos="8294760"/>
                <a:tab algn="l" pos="8744040"/>
                <a:tab algn="l" pos="91933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C" sz="1600" spc="-1" strike="noStrike">
                <a:solidFill>
                  <a:srgbClr val="000000"/>
                </a:solidFill>
                <a:latin typeface="Calibri"/>
              </a:rPr>
              <a:t>Implementar prácticas de doble chequeo en la preparación y administración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216000" indent="-209520" algn="just">
              <a:tabLst>
                <a:tab algn="l" pos="0"/>
                <a:tab algn="l" pos="209520"/>
                <a:tab algn="l" pos="657360"/>
                <a:tab algn="l" pos="1106640"/>
                <a:tab algn="l" pos="1555920"/>
                <a:tab algn="l" pos="2004840"/>
                <a:tab algn="l" pos="2454120"/>
                <a:tab algn="l" pos="2903400"/>
                <a:tab algn="l" pos="3352680"/>
                <a:tab algn="l" pos="3801960"/>
                <a:tab algn="l" pos="4251240"/>
                <a:tab algn="l" pos="4700520"/>
                <a:tab algn="l" pos="5149800"/>
                <a:tab algn="l" pos="5599080"/>
                <a:tab algn="l" pos="6048360"/>
                <a:tab algn="l" pos="6497640"/>
                <a:tab algn="l" pos="6946920"/>
                <a:tab algn="l" pos="7396200"/>
                <a:tab algn="l" pos="7845480"/>
                <a:tab algn="l" pos="8294760"/>
                <a:tab algn="l" pos="8744040"/>
                <a:tab algn="l" pos="91933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C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C" sz="1600" spc="-1" strike="noStrike">
                <a:solidFill>
                  <a:srgbClr val="000000"/>
                </a:solidFill>
                <a:latin typeface="Calibri"/>
              </a:rPr>
              <a:t>de estos medicamentos.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"/>
          <p:cNvSpPr/>
          <p:nvPr/>
        </p:nvSpPr>
        <p:spPr>
          <a:xfrm>
            <a:off x="1152360" y="1655640"/>
            <a:ext cx="18108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2448000" y="1800360"/>
            <a:ext cx="3600360" cy="647640"/>
          </a:xfrm>
          <a:prstGeom prst="flowChartPreparation">
            <a:avLst/>
          </a:prstGeom>
          <a:solidFill>
            <a:srgbClr val="729fcf"/>
          </a:solidFill>
          <a:ln cap="sq"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C" sz="1800" spc="-1" strike="noStrike">
                <a:solidFill>
                  <a:srgbClr val="000000"/>
                </a:solidFill>
                <a:latin typeface="Calibri"/>
              </a:rPr>
              <a:t>DEFINICIONES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" name=""/>
          <p:cNvSpPr/>
          <p:nvPr/>
        </p:nvSpPr>
        <p:spPr>
          <a:xfrm>
            <a:off x="1368360" y="3024360"/>
            <a:ext cx="2303640" cy="863280"/>
          </a:xfrm>
          <a:prstGeom prst="roundRect">
            <a:avLst>
              <a:gd name="adj" fmla="val 16667"/>
            </a:avLst>
          </a:prstGeom>
          <a:solidFill>
            <a:srgbClr val="cfe7f5"/>
          </a:solidFill>
          <a:ln cap="sq"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C" sz="1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s-EC" sz="1600" spc="-1" strike="noStrike">
                <a:solidFill>
                  <a:srgbClr val="000000"/>
                </a:solidFill>
                <a:latin typeface="Calibri"/>
              </a:rPr>
              <a:t>MEDICAMENTOS 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C" sz="1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s-EC" sz="1600" spc="-1" strike="noStrike">
                <a:solidFill>
                  <a:srgbClr val="000000"/>
                </a:solidFill>
                <a:latin typeface="Calibri"/>
              </a:rPr>
              <a:t>DE ALTO RIESGO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"/>
          <p:cNvSpPr/>
          <p:nvPr/>
        </p:nvSpPr>
        <p:spPr>
          <a:xfrm>
            <a:off x="5472000" y="3024360"/>
            <a:ext cx="2303640" cy="863280"/>
          </a:xfrm>
          <a:prstGeom prst="roundRect">
            <a:avLst>
              <a:gd name="adj" fmla="val 16667"/>
            </a:avLst>
          </a:prstGeom>
          <a:solidFill>
            <a:srgbClr val="cfe7f5"/>
          </a:solidFill>
          <a:ln cap="sq"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C" sz="16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s-EC" sz="1600" spc="-1" strike="noStrike">
                <a:solidFill>
                  <a:srgbClr val="000000"/>
                </a:solidFill>
                <a:latin typeface="Calibri"/>
              </a:rPr>
              <a:t>ELECTROLITOS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" name=""/>
          <p:cNvSpPr/>
          <p:nvPr/>
        </p:nvSpPr>
        <p:spPr>
          <a:xfrm>
            <a:off x="1152360" y="743040"/>
            <a:ext cx="3257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C" sz="1800" spc="-1" strike="noStrike">
                <a:solidFill>
                  <a:srgbClr val="ff3333"/>
                </a:solidFill>
                <a:latin typeface="Calibri"/>
              </a:rPr>
              <a:t> </a:t>
            </a:r>
            <a:r>
              <a:rPr b="0" lang="es-EC" sz="1800" spc="-1" strike="noStrike">
                <a:solidFill>
                  <a:srgbClr val="ff3333"/>
                </a:solidFill>
                <a:latin typeface="Calibri"/>
              </a:rPr>
              <a:t>DEFINICIONES: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" name=""/>
          <p:cNvSpPr/>
          <p:nvPr/>
        </p:nvSpPr>
        <p:spPr>
          <a:xfrm>
            <a:off x="692280" y="498600"/>
            <a:ext cx="760248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"/>
          <p:cNvSpPr/>
          <p:nvPr/>
        </p:nvSpPr>
        <p:spPr>
          <a:xfrm>
            <a:off x="1152360" y="1655640"/>
            <a:ext cx="18108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2440080" y="2519280"/>
            <a:ext cx="1744560" cy="43200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" name=""/>
          <p:cNvSpPr/>
          <p:nvPr/>
        </p:nvSpPr>
        <p:spPr>
          <a:xfrm>
            <a:off x="4535640" y="2519280"/>
            <a:ext cx="1655640" cy="43200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" name=""/>
          <p:cNvSpPr/>
          <p:nvPr/>
        </p:nvSpPr>
        <p:spPr>
          <a:xfrm>
            <a:off x="863640" y="4435560"/>
            <a:ext cx="3384360" cy="2317680"/>
          </a:xfrm>
          <a:prstGeom prst="roundRect">
            <a:avLst>
              <a:gd name="adj" fmla="val 16667"/>
            </a:avLst>
          </a:prstGeom>
          <a:solidFill>
            <a:srgbClr val="729fcf"/>
          </a:solidFill>
          <a:ln cap="sq" w="9360">
            <a:solidFill>
              <a:srgbClr val="346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C" sz="1400" spc="-1" strike="noStrike">
                <a:solidFill>
                  <a:srgbClr val="000000"/>
                </a:solidFill>
                <a:latin typeface="Calibri"/>
              </a:rPr>
              <a:t>Aquellos que cuando se utilizan 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C" sz="1400" spc="-1" strike="noStrike">
                <a:solidFill>
                  <a:srgbClr val="000000"/>
                </a:solidFill>
                <a:latin typeface="Calibri"/>
              </a:rPr>
              <a:t>Incorrectamente presentan mayor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C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C" sz="1400" spc="-1" strike="noStrike">
                <a:solidFill>
                  <a:srgbClr val="000000"/>
                </a:solidFill>
                <a:latin typeface="Calibri"/>
              </a:rPr>
              <a:t>probabilidad de causar daños 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C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C" sz="1400" spc="-1" strike="noStrike">
                <a:solidFill>
                  <a:srgbClr val="000000"/>
                </a:solidFill>
                <a:latin typeface="Calibri"/>
              </a:rPr>
              <a:t>graves o incluso mortales.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"/>
          <p:cNvSpPr/>
          <p:nvPr/>
        </p:nvSpPr>
        <p:spPr>
          <a:xfrm>
            <a:off x="4896000" y="4435560"/>
            <a:ext cx="3456000" cy="2303280"/>
          </a:xfrm>
          <a:prstGeom prst="roundRect">
            <a:avLst>
              <a:gd name="adj" fmla="val 16667"/>
            </a:avLst>
          </a:prstGeom>
          <a:solidFill>
            <a:srgbClr val="729fcf"/>
          </a:solidFill>
          <a:ln cap="sq" w="9360">
            <a:solidFill>
              <a:srgbClr val="346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C" sz="1400" spc="-1" strike="noStrike">
                <a:solidFill>
                  <a:srgbClr val="000000"/>
                </a:solidFill>
                <a:latin typeface="Calibri"/>
              </a:rPr>
              <a:t>Son minerales presentes en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C" sz="1400" spc="-1" strike="noStrike">
                <a:solidFill>
                  <a:srgbClr val="000000"/>
                </a:solidFill>
                <a:latin typeface="Calibri"/>
              </a:rPr>
              <a:t>la sangre y otros líquido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C" sz="1400" spc="-1" strike="noStrike">
                <a:solidFill>
                  <a:srgbClr val="000000"/>
                </a:solidFill>
                <a:latin typeface="Calibri"/>
              </a:rPr>
              <a:t>corporales que llevan un carga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C" sz="1400" spc="-1" strike="noStrike">
                <a:solidFill>
                  <a:srgbClr val="000000"/>
                </a:solidFill>
                <a:latin typeface="Calibri"/>
              </a:rPr>
              <a:t>eléctrica. Abarcan calcio, sodio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C" sz="1400" spc="-1" strike="noStrike">
                <a:solidFill>
                  <a:srgbClr val="000000"/>
                </a:solidFill>
                <a:latin typeface="Calibri"/>
              </a:rPr>
              <a:t>cloruro, magnesio, fósforo, potasio,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C" sz="1400" spc="-1" strike="noStrike">
                <a:solidFill>
                  <a:srgbClr val="000000"/>
                </a:solidFill>
                <a:latin typeface="Calibri"/>
              </a:rPr>
              <a:t>pueden ser ácidos, bases y sales.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2073240" y="3832200"/>
            <a:ext cx="809640" cy="6955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6191280" y="3841920"/>
            <a:ext cx="809640" cy="69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303640" y="431640"/>
            <a:ext cx="4608360" cy="792360"/>
          </a:xfrm>
          <a:prstGeom prst="downArrowCallout">
            <a:avLst>
              <a:gd name="adj1" fmla="val 145413"/>
              <a:gd name="adj2" fmla="val 145400"/>
              <a:gd name="adj3" fmla="val 16667"/>
              <a:gd name="adj4" fmla="val 66667"/>
            </a:avLst>
          </a:prstGeom>
          <a:solidFill>
            <a:srgbClr val="cfe7f5"/>
          </a:solidFill>
          <a:ln cap="sq"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C" sz="1800" spc="-1" strike="noStrike">
                <a:solidFill>
                  <a:srgbClr val="000000"/>
                </a:solidFill>
                <a:latin typeface="Calibri"/>
              </a:rPr>
              <a:t>Estrategias en la implementación del POR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"/>
          <p:cNvSpPr/>
          <p:nvPr/>
        </p:nvSpPr>
        <p:spPr>
          <a:xfrm>
            <a:off x="360360" y="1655640"/>
            <a:ext cx="8640720" cy="666720"/>
          </a:xfrm>
          <a:prstGeom prst="roundRect">
            <a:avLst>
              <a:gd name="adj" fmla="val 16667"/>
            </a:avLst>
          </a:prstGeom>
          <a:solidFill>
            <a:srgbClr val="729fcf"/>
          </a:solidFill>
          <a:ln cap="sq" w="9360">
            <a:solidFill>
              <a:srgbClr val="346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C" sz="1500" spc="-1" strike="noStrike">
                <a:solidFill>
                  <a:srgbClr val="000000"/>
                </a:solidFill>
                <a:latin typeface="Calibri"/>
              </a:rPr>
              <a:t>Las soluciones concentradas de electrolitos se tratarán como sustancias controladas,</a:t>
            </a:r>
            <a:endParaRPr b="0" lang="en-US" sz="15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C" sz="1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C" sz="1500" spc="-1" strike="noStrike">
                <a:solidFill>
                  <a:srgbClr val="000000"/>
                </a:solidFill>
                <a:latin typeface="Calibri"/>
              </a:rPr>
              <a:t>Incluyendo los requisitos que  restringen la orden y las condiciones de almacenamiento.</a:t>
            </a:r>
            <a:endParaRPr b="0" lang="en-US" sz="1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" name=""/>
          <p:cNvSpPr/>
          <p:nvPr/>
        </p:nvSpPr>
        <p:spPr>
          <a:xfrm>
            <a:off x="360360" y="2519280"/>
            <a:ext cx="8640720" cy="503280"/>
          </a:xfrm>
          <a:prstGeom prst="roundRect">
            <a:avLst>
              <a:gd name="adj" fmla="val 22338"/>
            </a:avLst>
          </a:prstGeom>
          <a:solidFill>
            <a:srgbClr val="729fcf"/>
          </a:solidFill>
          <a:ln cap="sq" w="9360">
            <a:solidFill>
              <a:srgbClr val="346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C" sz="1500" spc="-1" strike="noStrike">
                <a:solidFill>
                  <a:srgbClr val="000000"/>
                </a:solidFill>
                <a:latin typeface="Calibri"/>
              </a:rPr>
              <a:t>Se eliminará la soluciones concentradas de electrolitos de todas las unidades  de</a:t>
            </a:r>
            <a:endParaRPr b="0" lang="en-US" sz="15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C" sz="1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C" sz="1500" spc="-1" strike="noStrike">
                <a:solidFill>
                  <a:srgbClr val="000000"/>
                </a:solidFill>
                <a:latin typeface="Calibri"/>
              </a:rPr>
              <a:t>enfermería y almacenarán  únicamente en  farmacia  y coches de emergencia  bajo llave</a:t>
            </a:r>
            <a:endParaRPr b="0" lang="en-US" sz="1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" name=""/>
          <p:cNvSpPr/>
          <p:nvPr/>
        </p:nvSpPr>
        <p:spPr>
          <a:xfrm>
            <a:off x="360360" y="3213000"/>
            <a:ext cx="8640720" cy="1152720"/>
          </a:xfrm>
          <a:prstGeom prst="roundRect">
            <a:avLst>
              <a:gd name="adj" fmla="val 16667"/>
            </a:avLst>
          </a:prstGeom>
          <a:solidFill>
            <a:srgbClr val="729fcf"/>
          </a:solidFill>
          <a:ln cap="sq" w="9360">
            <a:solidFill>
              <a:srgbClr val="346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C" sz="1600" spc="-1" strike="noStrike">
                <a:solidFill>
                  <a:srgbClr val="000000"/>
                </a:solidFill>
                <a:latin typeface="Calibri"/>
              </a:rPr>
              <a:t>Las soluciones concentradas de electrolitos deben ser etiquetados en forma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C" sz="1600" spc="-1" strike="noStrike">
                <a:solidFill>
                  <a:srgbClr val="000000"/>
                </a:solidFill>
                <a:latin typeface="Calibri"/>
              </a:rPr>
              <a:t>individual con una etiqueta fosforescente visible que diga </a:t>
            </a:r>
            <a:r>
              <a:rPr b="0" i="1" lang="es-EC" sz="1600" spc="-1" strike="noStrike">
                <a:solidFill>
                  <a:srgbClr val="000000"/>
                </a:solidFill>
                <a:latin typeface="Calibri"/>
              </a:rPr>
              <a:t>“DEBE SER DILUIDO”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" name=""/>
          <p:cNvSpPr/>
          <p:nvPr/>
        </p:nvSpPr>
        <p:spPr>
          <a:xfrm>
            <a:off x="2558880" y="4680000"/>
            <a:ext cx="3632400" cy="1603440"/>
          </a:xfrm>
          <a:prstGeom prst="rect">
            <a:avLst/>
          </a:prstGeom>
          <a:solidFill>
            <a:srgbClr val="2323dc"/>
          </a:solidFill>
          <a:ln cap="sq"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"/>
          <p:cNvSpPr/>
          <p:nvPr/>
        </p:nvSpPr>
        <p:spPr>
          <a:xfrm>
            <a:off x="2160720" y="4608360"/>
            <a:ext cx="4895640" cy="1944720"/>
          </a:xfrm>
          <a:prstGeom prst="rect">
            <a:avLst/>
          </a:prstGeom>
          <a:solidFill>
            <a:srgbClr val="2323dc"/>
          </a:solidFill>
          <a:ln cap="sq"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"/>
          <p:cNvSpPr/>
          <p:nvPr/>
        </p:nvSpPr>
        <p:spPr>
          <a:xfrm>
            <a:off x="2448000" y="4751280"/>
            <a:ext cx="2303280" cy="153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C" sz="1400" spc="-1" strike="noStrike">
                <a:solidFill>
                  <a:srgbClr val="ffffff"/>
                </a:solidFill>
                <a:latin typeface="Times New Roman"/>
                <a:ea typeface="DejaVu Sans;MS Mincho"/>
              </a:rPr>
              <a:t>HOSPITAL PROVINCIAL PUYO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C" sz="1400" spc="-1" strike="noStrike">
                <a:solidFill>
                  <a:srgbClr val="ffffff"/>
                </a:solidFill>
                <a:latin typeface="Times New Roman"/>
                <a:ea typeface="DejaVu Sans;MS Mincho"/>
              </a:rPr>
              <a:t>DEBE SER DILUIDO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C" sz="1400" spc="-1" strike="noStrike">
                <a:solidFill>
                  <a:srgbClr val="ffffff"/>
                </a:solidFill>
                <a:latin typeface="Times New Roman"/>
                <a:ea typeface="DejaVu Sans;MS Mincho"/>
              </a:rPr>
              <a:t>NOMBRE MEDICAMENTO Y CONCENTRACION: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C" sz="1400" spc="-1" strike="noStrike">
                <a:solidFill>
                  <a:srgbClr val="ffffff"/>
                </a:solidFill>
                <a:latin typeface="Times New Roman"/>
                <a:ea typeface="DejaVu Sans;MS Mincho"/>
              </a:rPr>
              <a:t>FORMA FARMACEÚTICA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5256360" y="4680000"/>
            <a:ext cx="1511280" cy="180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44360" y="1152360"/>
            <a:ext cx="8783640" cy="1079640"/>
          </a:xfrm>
          <a:prstGeom prst="roundRect">
            <a:avLst>
              <a:gd name="adj" fmla="val 16667"/>
            </a:avLst>
          </a:prstGeom>
          <a:solidFill>
            <a:srgbClr val="729fcf"/>
          </a:solidFill>
          <a:ln cap="sq" w="9360">
            <a:solidFill>
              <a:srgbClr val="346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C" sz="1500" spc="-1" strike="noStrike">
                <a:solidFill>
                  <a:srgbClr val="000000"/>
                </a:solidFill>
                <a:latin typeface="Calibri"/>
              </a:rPr>
              <a:t>La preparación farmacéutica de las soluciones debe ser realizada únicamente  por</a:t>
            </a:r>
            <a:endParaRPr b="0" lang="en-US" sz="15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C" sz="1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C" sz="1500" spc="-1" strike="noStrike">
                <a:solidFill>
                  <a:srgbClr val="000000"/>
                </a:solidFill>
                <a:latin typeface="Calibri"/>
              </a:rPr>
              <a:t>personas  capacitadas y calificadas( médico, enfermera, técnico farmacéutico)</a:t>
            </a:r>
            <a:endParaRPr b="0" lang="en-US" sz="1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" name=""/>
          <p:cNvSpPr/>
          <p:nvPr/>
        </p:nvSpPr>
        <p:spPr>
          <a:xfrm>
            <a:off x="144360" y="2519280"/>
            <a:ext cx="8783640" cy="1152720"/>
          </a:xfrm>
          <a:prstGeom prst="roundRect">
            <a:avLst>
              <a:gd name="adj" fmla="val 16667"/>
            </a:avLst>
          </a:prstGeom>
          <a:solidFill>
            <a:srgbClr val="729fcf"/>
          </a:solidFill>
          <a:ln cap="sq" w="9360">
            <a:solidFill>
              <a:srgbClr val="346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C" sz="1500" spc="-1" strike="noStrike">
                <a:solidFill>
                  <a:srgbClr val="000000"/>
                </a:solidFill>
                <a:latin typeface="Calibri"/>
              </a:rPr>
              <a:t>Luego de la preparación debe realizarse una verificación independiente por parte de</a:t>
            </a:r>
            <a:endParaRPr b="0" lang="en-US" sz="15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C" sz="1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C" sz="1500" spc="-1" strike="noStrike">
                <a:solidFill>
                  <a:srgbClr val="000000"/>
                </a:solidFill>
                <a:latin typeface="Calibri"/>
              </a:rPr>
              <a:t>una segunda persona capacitada y calificada para lo cual se establece  un  listado  de</a:t>
            </a:r>
            <a:endParaRPr b="0" lang="en-US" sz="15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C" sz="1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C" sz="1500" spc="-1" strike="noStrike">
                <a:solidFill>
                  <a:srgbClr val="000000"/>
                </a:solidFill>
                <a:latin typeface="Calibri"/>
              </a:rPr>
              <a:t>verificación cuyos puntos a considerar son  cálculos de concentración, velocidades de</a:t>
            </a:r>
            <a:endParaRPr b="0" lang="en-US" sz="15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C" sz="1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C" sz="1500" spc="-1" strike="noStrike">
                <a:solidFill>
                  <a:srgbClr val="000000"/>
                </a:solidFill>
                <a:latin typeface="Calibri"/>
              </a:rPr>
              <a:t>la bomba de infusión,  y las conexiones adecuadas de la vía.</a:t>
            </a:r>
            <a:endParaRPr b="0" lang="en-US" sz="1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"/>
          <p:cNvSpPr/>
          <p:nvPr/>
        </p:nvSpPr>
        <p:spPr>
          <a:xfrm>
            <a:off x="144360" y="4032360"/>
            <a:ext cx="8783640" cy="503280"/>
          </a:xfrm>
          <a:prstGeom prst="roundRect">
            <a:avLst>
              <a:gd name="adj" fmla="val 16667"/>
            </a:avLst>
          </a:prstGeom>
          <a:solidFill>
            <a:srgbClr val="729fcf"/>
          </a:solidFill>
          <a:ln cap="sq" w="9360">
            <a:solidFill>
              <a:srgbClr val="346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C" sz="1600" spc="-1" strike="noStrike">
                <a:solidFill>
                  <a:srgbClr val="000000"/>
                </a:solidFill>
                <a:latin typeface="Calibri"/>
              </a:rPr>
              <a:t>Se colocará una etiqueta que diga CUIDADO-ALTO RIESGO a la solución preparada 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C" sz="1600" spc="-1" strike="noStrike">
                <a:solidFill>
                  <a:srgbClr val="000000"/>
                </a:solidFill>
                <a:latin typeface="Calibri"/>
              </a:rPr>
              <a:t>antes de  su administración.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" name=""/>
          <p:cNvSpPr/>
          <p:nvPr/>
        </p:nvSpPr>
        <p:spPr>
          <a:xfrm>
            <a:off x="2160720" y="4896000"/>
            <a:ext cx="4392360" cy="1511280"/>
          </a:xfrm>
          <a:prstGeom prst="rect">
            <a:avLst/>
          </a:prstGeom>
          <a:solidFill>
            <a:srgbClr val="3deb3d"/>
          </a:solidFill>
          <a:ln cap="sq"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2303640" y="4967280"/>
            <a:ext cx="1693800" cy="13683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4281480" y="4967280"/>
            <a:ext cx="205596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C" sz="1100" spc="-1" strike="noStrike">
                <a:solidFill>
                  <a:srgbClr val="000000"/>
                </a:solidFill>
                <a:latin typeface="Times New Roman"/>
                <a:ea typeface="DejaVu Sans;MS Mincho"/>
              </a:rPr>
              <a:t>HOSPITAL PROVINCIAL PUYO</a:t>
            </a:r>
            <a:endParaRPr b="0" lang="en-US" sz="11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C" sz="1100" spc="-1" strike="noStrike">
                <a:solidFill>
                  <a:srgbClr val="000000"/>
                </a:solidFill>
                <a:latin typeface="Times New Roman"/>
                <a:ea typeface="DejaVu Sans;MS Mincho"/>
              </a:rPr>
              <a:t>CUIDADO ALTO RIESGO</a:t>
            </a:r>
            <a:endParaRPr b="0" lang="en-US" sz="11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1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C" sz="1100" spc="-1" strike="noStrike">
                <a:solidFill>
                  <a:srgbClr val="000000"/>
                </a:solidFill>
                <a:latin typeface="Times New Roman"/>
                <a:ea typeface="DejaVu Sans;MS Mincho"/>
              </a:rPr>
              <a:t>NOMBRE MEDICAMENTO Y CONCENTRACION:</a:t>
            </a:r>
            <a:endParaRPr b="0" lang="en-US" sz="11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1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C" sz="1100" spc="-1" strike="noStrike">
                <a:solidFill>
                  <a:srgbClr val="000000"/>
                </a:solidFill>
                <a:latin typeface="Times New Roman"/>
                <a:ea typeface="DejaVu Sans;MS Mincho"/>
              </a:rPr>
              <a:t>FORMA FARMACEÚTICA</a:t>
            </a:r>
            <a:endParaRPr b="0" lang="en-US" sz="11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1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7280" y="863640"/>
            <a:ext cx="8640720" cy="1079640"/>
          </a:xfrm>
          <a:prstGeom prst="roundRect">
            <a:avLst>
              <a:gd name="adj" fmla="val 16667"/>
            </a:avLst>
          </a:prstGeom>
          <a:solidFill>
            <a:srgbClr val="729fcf"/>
          </a:solidFill>
          <a:ln cap="sq" w="9360">
            <a:solidFill>
              <a:srgbClr val="346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C" sz="1500" spc="-1" strike="noStrike">
                <a:solidFill>
                  <a:srgbClr val="000000"/>
                </a:solidFill>
                <a:latin typeface="Calibri"/>
              </a:rPr>
              <a:t>Se utilizará bomba de infusión para administrar soluciones concentradas, si no hubiera</a:t>
            </a:r>
            <a:endParaRPr b="0" lang="en-US" sz="15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C" sz="1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C" sz="1500" spc="-1" strike="noStrike">
                <a:solidFill>
                  <a:srgbClr val="000000"/>
                </a:solidFill>
                <a:latin typeface="Calibri"/>
              </a:rPr>
              <a:t>una  bomba de infusión disponible, podrá tenerse en cuenta el uso de otros dispositivos </a:t>
            </a:r>
            <a:endParaRPr b="0" lang="en-US" sz="15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C" sz="1500" spc="-1" strike="noStrike">
                <a:solidFill>
                  <a:srgbClr val="000000"/>
                </a:solidFill>
                <a:latin typeface="Calibri"/>
              </a:rPr>
              <a:t>de infusión, como un equipo buretrol para administración.</a:t>
            </a:r>
            <a:endParaRPr b="0" lang="en-US" sz="1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"/>
          <p:cNvSpPr/>
          <p:nvPr/>
        </p:nvSpPr>
        <p:spPr>
          <a:xfrm>
            <a:off x="360360" y="2232000"/>
            <a:ext cx="8567640" cy="720720"/>
          </a:xfrm>
          <a:prstGeom prst="roundRect">
            <a:avLst>
              <a:gd name="adj" fmla="val 16667"/>
            </a:avLst>
          </a:prstGeom>
          <a:solidFill>
            <a:srgbClr val="729fcf"/>
          </a:solidFill>
          <a:ln cap="sq" w="9360">
            <a:solidFill>
              <a:srgbClr val="346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C" sz="1500" spc="-1" strike="noStrike">
                <a:solidFill>
                  <a:srgbClr val="000000"/>
                </a:solidFill>
                <a:latin typeface="Calibri"/>
              </a:rPr>
              <a:t>Las órdenes de los  médicos  deben incluir la velocidad de infusión de estas soluciones</a:t>
            </a:r>
            <a:r>
              <a:rPr b="0" lang="es-EC" sz="1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" name=""/>
          <p:cNvSpPr/>
          <p:nvPr/>
        </p:nvSpPr>
        <p:spPr>
          <a:xfrm>
            <a:off x="360360" y="3384720"/>
            <a:ext cx="8496360" cy="1008000"/>
          </a:xfrm>
          <a:prstGeom prst="roundRect">
            <a:avLst>
              <a:gd name="adj" fmla="val 16667"/>
            </a:avLst>
          </a:prstGeom>
          <a:solidFill>
            <a:srgbClr val="729fcf"/>
          </a:solidFill>
          <a:ln cap="sq" w="9360">
            <a:solidFill>
              <a:srgbClr val="346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C" sz="1500" spc="-1" strike="noStrike">
                <a:solidFill>
                  <a:srgbClr val="000000"/>
                </a:solidFill>
                <a:latin typeface="Calibri"/>
              </a:rPr>
              <a:t>Los contenedores también se etiquetarán con el nombre y el color designado por el </a:t>
            </a:r>
            <a:endParaRPr b="0" lang="en-US" sz="15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C" sz="1500" spc="-1" strike="noStrike">
                <a:solidFill>
                  <a:srgbClr val="000000"/>
                </a:solidFill>
                <a:latin typeface="Calibri"/>
              </a:rPr>
              <a:t>tipo de electrolito y otra etiqueta que diga “</a:t>
            </a:r>
            <a:r>
              <a:rPr b="0" i="1" lang="es-EC" sz="1500" spc="-1" strike="noStrike">
                <a:solidFill>
                  <a:srgbClr val="000000"/>
                </a:solidFill>
                <a:latin typeface="Calibri"/>
              </a:rPr>
              <a:t>CUIDADO ALTO RIESGO”.</a:t>
            </a:r>
            <a:endParaRPr b="0" lang="en-US" sz="1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"/>
          <p:cNvSpPr/>
          <p:nvPr/>
        </p:nvSpPr>
        <p:spPr>
          <a:xfrm>
            <a:off x="360360" y="4940280"/>
            <a:ext cx="8496360" cy="865080"/>
          </a:xfrm>
          <a:prstGeom prst="roundRect">
            <a:avLst>
              <a:gd name="adj" fmla="val 16667"/>
            </a:avLst>
          </a:prstGeom>
          <a:solidFill>
            <a:srgbClr val="729fcf"/>
          </a:solidFill>
          <a:ln cap="sq" w="9360">
            <a:solidFill>
              <a:srgbClr val="346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C" sz="1500" spc="-1" strike="noStrike">
                <a:solidFill>
                  <a:srgbClr val="000000"/>
                </a:solidFill>
                <a:latin typeface="Calibri"/>
              </a:rPr>
              <a:t>Cuando estén indicados estos medicamentos se verificará que se trate del paciente </a:t>
            </a:r>
            <a:endParaRPr b="0" lang="en-US" sz="15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C" sz="1500" spc="-1" strike="noStrike">
                <a:solidFill>
                  <a:srgbClr val="000000"/>
                </a:solidFill>
                <a:latin typeface="Calibri"/>
              </a:rPr>
              <a:t>correcto fármaco correcto, vía correcta, dosis correcta, y horario correcto antes durante</a:t>
            </a:r>
            <a:endParaRPr b="0" lang="en-US" sz="15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C" sz="1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C" sz="1500" spc="-1" strike="noStrike">
                <a:solidFill>
                  <a:srgbClr val="000000"/>
                </a:solidFill>
                <a:latin typeface="Calibri"/>
              </a:rPr>
              <a:t>la preparación y administración.</a:t>
            </a:r>
            <a:endParaRPr b="0" lang="en-US" sz="15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11T15:11:22Z</dcterms:created>
  <dc:creator>Administrador administrador</dc:creator>
  <dc:description/>
  <dc:language>en-US</dc:language>
  <cp:lastModifiedBy>Ramiro Gudiño</cp:lastModifiedBy>
  <dcterms:modified xsi:type="dcterms:W3CDTF">2014-10-27T10:51:32Z</dcterms:modified>
  <cp:revision>39</cp:revision>
  <dc:subject/>
  <dc:title>Presentación de PowerPoint</dc:title>
</cp:coreProperties>
</file>