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79200" cy="12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9E61-8F3E-4F19-B2E5-9F5FAB4CF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97440"/>
            <a:ext cx="82090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08FF-AEEB-468E-B480-8EF68F6EF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97440"/>
            <a:ext cx="4005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080" y="3997440"/>
            <a:ext cx="4005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C466-E590-4BE0-A5AE-200CF3193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97440"/>
            <a:ext cx="26431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440" y="3997440"/>
            <a:ext cx="26431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3997440"/>
            <a:ext cx="26431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6A65-7E25-4CFB-B427-5E52046390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556A-B8EE-4B24-A9D1-745270FD07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7AD8D-6297-4207-BD97-3D21F1D06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2B91-F52D-4193-A1DB-81552DAFE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9B9F-887D-4FDF-8168-7962E2EEF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908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100C-3BC8-4D50-8600-02E63B98C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97440"/>
            <a:ext cx="4005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288C0-9728-4500-9B41-16C356AD0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080" y="3997440"/>
            <a:ext cx="4005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EBEC-5542-4C78-9FE2-2ADD67D0A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97440"/>
            <a:ext cx="82090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0BA7-EBC4-444C-9548-CF3A21795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908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3280"/>
            <a:ext cx="2119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13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C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C5348-9502-428C-8DE1-9A3BD663C300}" type="slidenum">
              <a:rPr b="0" lang="es-EC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720720" y="2097000"/>
            <a:ext cx="770400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800" spc="-1" strike="noStrike">
                <a:solidFill>
                  <a:srgbClr val="0000ff"/>
                </a:solidFill>
                <a:latin typeface="Calibri"/>
              </a:rPr>
              <a:t>MANEJO DE MEDICAMENTOS  DE ALTO RIESGO Y CONTROL DE ELECTROLITOS CONCENTRADO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35080" y="4608360"/>
            <a:ext cx="242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2297160" y="3643200"/>
            <a:ext cx="460692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"/>
          <p:cNvSpPr/>
          <p:nvPr/>
        </p:nvSpPr>
        <p:spPr>
          <a:xfrm>
            <a:off x="287280" y="647640"/>
            <a:ext cx="8640720" cy="151308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Existen algunos espacios físicos que por sus características deben mantener almacenados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electrolitos concentrados  como UCI, carros rojos de cada servicio, esto  deberá  ser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justificados por seguridad y  se establecerán actas de entrega- recepción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287280" y="2448000"/>
            <a:ext cx="8567640" cy="93672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Se dispensará únicamente dosis de electrolitos  para 24 horas, para lo  cual el coche de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dosis unitaria debe estar bien rotulado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287280" y="3743280"/>
            <a:ext cx="8567640" cy="103500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Se realizara la difusión al personal relacionado con la indicación y  administración d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Medicamentos indicando que los electrolitos concentrados requieren dilución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1"/>
          <p:cNvSpPr/>
          <p:nvPr/>
        </p:nvSpPr>
        <p:spPr>
          <a:xfrm>
            <a:off x="2160720" y="360360"/>
            <a:ext cx="4824360" cy="863640"/>
          </a:xfrm>
          <a:prstGeom prst="ellipse">
            <a:avLst/>
          </a:prstGeom>
          <a:solidFill>
            <a:srgbClr val="729fcf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IMPLEMENTACIÓ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Oval 2"/>
          <p:cNvSpPr/>
          <p:nvPr/>
        </p:nvSpPr>
        <p:spPr>
          <a:xfrm>
            <a:off x="2735280" y="1800360"/>
            <a:ext cx="3672000" cy="1079280"/>
          </a:xfrm>
          <a:prstGeom prst="ellipse">
            <a:avLst/>
          </a:prstGeom>
          <a:solidFill>
            <a:srgbClr val="cfe7f5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FARMACIA etiquetado cad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lectrolit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16" name="AutoShape 3"/>
          <p:cNvCxnSpPr>
            <a:stCxn id="114" idx="4"/>
            <a:endCxn id="115" idx="0"/>
          </p:cNvCxnSpPr>
          <p:nvPr/>
        </p:nvCxnSpPr>
        <p:spPr>
          <a:xfrm flipH="1">
            <a:off x="4571640" y="1223640"/>
            <a:ext cx="2160" cy="5770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AutoShape 4"/>
          <p:cNvCxnSpPr>
            <a:stCxn id="115" idx="4"/>
          </p:cNvCxnSpPr>
          <p:nvPr/>
        </p:nvCxnSpPr>
        <p:spPr>
          <a:xfrm>
            <a:off x="4571640" y="2879280"/>
            <a:ext cx="5400" cy="5770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AutoShape 5"/>
          <p:cNvCxnSpPr/>
          <p:nvPr/>
        </p:nvCxnSpPr>
        <p:spPr>
          <a:xfrm>
            <a:off x="1765440" y="3446640"/>
            <a:ext cx="5823360" cy="21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</a:ln>
        </p:spPr>
      </p:cxnSp>
      <p:cxnSp>
        <p:nvCxnSpPr>
          <p:cNvPr id="119" name="AutoShape 6"/>
          <p:cNvCxnSpPr/>
          <p:nvPr/>
        </p:nvCxnSpPr>
        <p:spPr>
          <a:xfrm>
            <a:off x="4572000" y="3456000"/>
            <a:ext cx="8640" cy="489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AutoShape 7"/>
          <p:cNvCxnSpPr/>
          <p:nvPr/>
        </p:nvCxnSpPr>
        <p:spPr>
          <a:xfrm>
            <a:off x="1765080" y="3456000"/>
            <a:ext cx="6840" cy="489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8"/>
          <p:cNvCxnSpPr/>
          <p:nvPr/>
        </p:nvCxnSpPr>
        <p:spPr>
          <a:xfrm>
            <a:off x="7596000" y="3456000"/>
            <a:ext cx="6840" cy="489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AutoShape 9"/>
          <p:cNvCxnSpPr/>
          <p:nvPr/>
        </p:nvCxnSpPr>
        <p:spPr>
          <a:xfrm flipH="1">
            <a:off x="3164760" y="3456000"/>
            <a:ext cx="3960" cy="193752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AutoShape 10"/>
          <p:cNvCxnSpPr/>
          <p:nvPr/>
        </p:nvCxnSpPr>
        <p:spPr>
          <a:xfrm flipH="1">
            <a:off x="6042960" y="3457440"/>
            <a:ext cx="3960" cy="193752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Rectangle 11"/>
          <p:cNvSpPr/>
          <p:nvPr/>
        </p:nvSpPr>
        <p:spPr>
          <a:xfrm>
            <a:off x="720720" y="3924360"/>
            <a:ext cx="2087640" cy="1295280"/>
          </a:xfrm>
          <a:prstGeom prst="rect">
            <a:avLst/>
          </a:prstGeom>
          <a:solidFill>
            <a:srgbClr val="ff3333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Cloruro de Potasi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2 mEq/m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ROJ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3527280" y="3924360"/>
            <a:ext cx="2087640" cy="1295280"/>
          </a:xfrm>
          <a:prstGeom prst="rect">
            <a:avLst/>
          </a:prstGeom>
          <a:solidFill>
            <a:srgbClr val="94bd5e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Cloruro de Sodi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20%(3.422 mEq/mL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VERD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6551640" y="3924360"/>
            <a:ext cx="2087640" cy="1295280"/>
          </a:xfrm>
          <a:prstGeom prst="rect">
            <a:avLst/>
          </a:prstGeom>
          <a:solidFill>
            <a:srgbClr val="0066cc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Gluconato de Calci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AZU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5003640" y="5400720"/>
            <a:ext cx="2087640" cy="1295280"/>
          </a:xfrm>
          <a:prstGeom prst="rect">
            <a:avLst/>
          </a:prstGeom>
          <a:solidFill>
            <a:srgbClr val="ff6633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Sulfato de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Magnesio 10%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NARANJ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2124000" y="5400720"/>
            <a:ext cx="2087640" cy="1295280"/>
          </a:xfrm>
          <a:prstGeom prst="rect">
            <a:avLst/>
          </a:prstGeom>
          <a:solidFill>
            <a:srgbClr val="ff00ff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Bicarbonato de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Sodio 8.4%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FUCSI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2"/>
          <a:stretch/>
        </p:blipFill>
        <p:spPr>
          <a:xfrm>
            <a:off x="4788000" y="3500280"/>
            <a:ext cx="3960720" cy="3241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3"/>
          <a:stretch/>
        </p:blipFill>
        <p:spPr>
          <a:xfrm>
            <a:off x="324000" y="115920"/>
            <a:ext cx="4535280" cy="3384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5435640" y="1268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c00000"/>
                </a:solidFill>
                <a:latin typeface="Calibri"/>
              </a:rPr>
              <a:t>Almacenamient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4360" y="4869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c00000"/>
                </a:solidFill>
                <a:latin typeface="Calibri"/>
              </a:rPr>
              <a:t>Distribució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1"/>
          <p:cNvSpPr/>
          <p:nvPr/>
        </p:nvSpPr>
        <p:spPr>
          <a:xfrm>
            <a:off x="216000" y="1773360"/>
            <a:ext cx="8783640" cy="417672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279360" indent="-279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Almacenamiento de soluciones concentradas en los botiquines de las unidade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9360" indent="-279360">
              <a:spcBef>
                <a:spcPts val="799"/>
              </a:spcBef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asistenciale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9360" indent="-279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Confusión de las ampollas de KCl con otras soluciones IV de aspecto simila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9360" indent="-279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Existencia de ampollas multidosis que pueden ocasionar sobredosificaciones por err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9360" indent="-279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Administración por error del KCl a una velocidad superior a 10 mEq/h, lo que puede causar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9360" indent="-279360">
              <a:spcBef>
                <a:spcPts val="799"/>
              </a:spcBef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paros cardíaco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9360" indent="-279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Prescripción por “ampollas” o “viales” en lugar de utilizar unidades de cantidad (ej: mEq.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9360" indent="-279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Programación incorrecta de las bombas de infusió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9360" indent="-279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Errores en las diluciones cuando se manejan distintas concentracione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9360" indent="-279360">
              <a:spcBef>
                <a:spcPts val="799"/>
              </a:spcBef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9360" indent="-279360">
              <a:spcBef>
                <a:spcPts val="799"/>
              </a:spcBef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9360" indent="-279360">
              <a:spcBef>
                <a:spcPts val="799"/>
              </a:spcBef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9360" indent="-279360">
              <a:spcBef>
                <a:spcPts val="799"/>
              </a:spcBef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Fuente: Ministerio de Sanidad y Consumo de España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949400" y="1052640"/>
            <a:ext cx="70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1800" spc="-1" strike="noStrike">
                <a:solidFill>
                  <a:srgbClr val="c00000"/>
                </a:solidFill>
                <a:latin typeface="Calibri"/>
              </a:rPr>
              <a:t>Errores </a:t>
            </a:r>
            <a:r>
              <a:rPr b="1" i="1" lang="es-EC" sz="1800" spc="-1" strike="noStrike">
                <a:solidFill>
                  <a:srgbClr val="c00000"/>
                </a:solidFill>
                <a:latin typeface="Calibri"/>
              </a:rPr>
              <a:t>comunes</a:t>
            </a:r>
            <a:r>
              <a:rPr b="1" lang="es-EC" sz="1800" spc="-1" strike="noStrike">
                <a:solidFill>
                  <a:srgbClr val="c00000"/>
                </a:solidFill>
                <a:latin typeface="Calibri"/>
              </a:rPr>
              <a:t>  detectados en la administración de cloruro de potasio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287280" y="676440"/>
            <a:ext cx="8423280" cy="86328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Los medicamentos que sean iguales pero de diferente dosificación, deben de ubicarse en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Recipientes diferentes etiquetados con diferentes colores 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2"/>
          <p:cNvSpPr/>
          <p:nvPr/>
        </p:nvSpPr>
        <p:spPr>
          <a:xfrm>
            <a:off x="287280" y="1666800"/>
            <a:ext cx="8423280" cy="86364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Dentro del almacenamiento los medicamentos con nombres de principios activos parecidos,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se escribirán el primer medicamento con mayúscula y el segundo con minúscula. Todas la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etiquetas deben estar mirando hacia adelante para evitar confusione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360360" y="2952720"/>
            <a:ext cx="8423280" cy="38210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1180080" y="258444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c00000"/>
                </a:solidFill>
                <a:latin typeface="Calibri"/>
              </a:rPr>
              <a:t>Lista de medicamentos de alto riesgo x grupos terapéutico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68360" y="17928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c00000"/>
                </a:solidFill>
                <a:latin typeface="Calibri"/>
              </a:rPr>
              <a:t>Medicamentos de alto riesg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1"/>
          <p:cNvSpPr/>
          <p:nvPr/>
        </p:nvSpPr>
        <p:spPr>
          <a:xfrm>
            <a:off x="71280" y="260280"/>
            <a:ext cx="8461440" cy="388800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C" sz="1300" spc="-1" strike="noStrike">
                <a:solidFill>
                  <a:srgbClr val="c00000"/>
                </a:solidFill>
                <a:latin typeface="Calibri"/>
                <a:ea typeface="Arial"/>
              </a:rPr>
              <a:t>    </a:t>
            </a:r>
            <a:r>
              <a:rPr b="1" i="1" lang="es-EC" sz="1300" spc="-1" strike="noStrike">
                <a:solidFill>
                  <a:srgbClr val="c00000"/>
                </a:solidFill>
                <a:latin typeface="Calibri"/>
                <a:ea typeface="Arial"/>
              </a:rPr>
              <a:t>Medicamentos específico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300" spc="-1" strike="noStrike">
                <a:solidFill>
                  <a:srgbClr val="000000"/>
                </a:solidFill>
                <a:latin typeface="Calibri"/>
                <a:ea typeface="Arial"/>
              </a:rPr>
              <a:t>- Cloruro de potasio IV (Solución concentrada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300" spc="-1" strike="noStrike">
                <a:solidFill>
                  <a:srgbClr val="000000"/>
                </a:solidFill>
                <a:latin typeface="Calibri"/>
                <a:ea typeface="Arial"/>
              </a:rPr>
              <a:t>- Cloruro de sodio hipertónico (&gt; o = 0,9%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300" spc="-1" strike="noStrike">
                <a:solidFill>
                  <a:srgbClr val="000000"/>
                </a:solidFill>
                <a:latin typeface="Calibri"/>
                <a:ea typeface="Arial"/>
              </a:rPr>
              <a:t>- Fosfato potásico IV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300" spc="-1" strike="noStrike">
                <a:solidFill>
                  <a:srgbClr val="000000"/>
                </a:solidFill>
                <a:latin typeface="Calibri"/>
                <a:ea typeface="Arial"/>
              </a:rPr>
              <a:t>- Insulina SC e IV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300" spc="-1" strike="noStrike">
                <a:solidFill>
                  <a:srgbClr val="000000"/>
                </a:solidFill>
                <a:latin typeface="Calibri"/>
                <a:ea typeface="Arial"/>
              </a:rPr>
              <a:t>- Metotrexato oral (uso no oncológico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300" spc="-1" strike="noStrike">
                <a:solidFill>
                  <a:srgbClr val="000000"/>
                </a:solidFill>
                <a:latin typeface="Calibri"/>
                <a:ea typeface="Arial"/>
              </a:rPr>
              <a:t>- Nitroprusiato de Sodio IV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300" spc="-1" strike="noStrike">
                <a:solidFill>
                  <a:srgbClr val="000000"/>
                </a:solidFill>
                <a:latin typeface="Calibri"/>
                <a:ea typeface="Arial"/>
              </a:rPr>
              <a:t>- Oxitocina IV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300" spc="-1" strike="noStrike">
                <a:solidFill>
                  <a:srgbClr val="000000"/>
                </a:solidFill>
                <a:latin typeface="Calibri"/>
                <a:ea typeface="Arial"/>
              </a:rPr>
              <a:t>- Prometazina IV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300" spc="-1" strike="noStrike">
                <a:solidFill>
                  <a:srgbClr val="000000"/>
                </a:solidFill>
                <a:latin typeface="Calibri"/>
                <a:ea typeface="Arial"/>
              </a:rPr>
              <a:t>- Sulfato de magnesio IV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1"/>
          <p:cNvSpPr/>
          <p:nvPr/>
        </p:nvSpPr>
        <p:spPr>
          <a:xfrm>
            <a:off x="2303640" y="863640"/>
            <a:ext cx="4248000" cy="100800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ANTECEDENT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60" name="AutoShape 2"/>
          <p:cNvCxnSpPr>
            <a:stCxn id="59" idx="2"/>
          </p:cNvCxnSpPr>
          <p:nvPr/>
        </p:nvCxnSpPr>
        <p:spPr>
          <a:xfrm flipH="1">
            <a:off x="4425120" y="1871640"/>
            <a:ext cx="2520" cy="3564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AutoShape 3"/>
          <p:cNvSpPr/>
          <p:nvPr/>
        </p:nvSpPr>
        <p:spPr>
          <a:xfrm>
            <a:off x="900000" y="2227320"/>
            <a:ext cx="7415280" cy="403704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Los errores de medicación y sus consecuencias negativas, los acontecimient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adversos por medicamentos prevenibles constituyen en la actualidad una grav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problema de salud, con repercusiones asistenciales, económico y desconfianz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en el sistema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Se estima que los errores de medicación son responsables de una de cada 85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muertes en pacientes hospitalizados y de una de cada 131 muertes en pacient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ambulatorio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Los errores asociados a la medicación pueden motivar a un 5% de los ingres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Hospitalarios o de alargamiento de la misma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Se ha estimado que el índice de errores de medicación en varios estudios 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aproximadamente el 13%, de los cuales podrían ser prevenibles el 90% mediante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sistemas de detección y control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Dentro de las causas más frecuentes están los factores humanos con un 56% y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dentro del tipo más frecuente detectado es el medicamento erróneo y la dosi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incorrecta con una ocurrencia de 34% y 28% respectivamente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1"/>
          <p:cNvSpPr/>
          <p:nvPr/>
        </p:nvSpPr>
        <p:spPr>
          <a:xfrm>
            <a:off x="3384720" y="144360"/>
            <a:ext cx="2232000" cy="1800360"/>
          </a:xfrm>
          <a:prstGeom prst="diamond">
            <a:avLst/>
          </a:prstGeom>
          <a:solidFill>
            <a:srgbClr val="729fcf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PROPOSIT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63" name="AutoShape 2"/>
          <p:cNvCxnSpPr>
            <a:stCxn id="62" idx="2"/>
            <a:endCxn id="64" idx="0"/>
          </p:cNvCxnSpPr>
          <p:nvPr/>
        </p:nvCxnSpPr>
        <p:spPr>
          <a:xfrm flipH="1">
            <a:off x="4498200" y="1944720"/>
            <a:ext cx="2520" cy="4672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Oval 3"/>
          <p:cNvSpPr/>
          <p:nvPr/>
        </p:nvSpPr>
        <p:spPr>
          <a:xfrm>
            <a:off x="1871640" y="2411280"/>
            <a:ext cx="5256360" cy="1187640"/>
          </a:xfrm>
          <a:prstGeom prst="ellipse">
            <a:avLst/>
          </a:prstGeom>
          <a:solidFill>
            <a:srgbClr val="cfe7f5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Almacenar los concentrados de electrolitos lej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de las áreas de atención al client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65" name="AutoShape 4"/>
          <p:cNvCxnSpPr>
            <a:stCxn id="64" idx="4"/>
          </p:cNvCxnSpPr>
          <p:nvPr/>
        </p:nvCxnSpPr>
        <p:spPr>
          <a:xfrm>
            <a:off x="4498560" y="3598920"/>
            <a:ext cx="3960" cy="5814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Rectangle 5"/>
          <p:cNvSpPr/>
          <p:nvPr/>
        </p:nvSpPr>
        <p:spPr>
          <a:xfrm>
            <a:off x="2916360" y="4176720"/>
            <a:ext cx="3168360" cy="720720"/>
          </a:xfrm>
          <a:prstGeom prst="rect">
            <a:avLst/>
          </a:prstGeom>
          <a:solidFill>
            <a:srgbClr val="729fcf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ALCAN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67" name="AutoShape 6"/>
          <p:cNvCxnSpPr>
            <a:stCxn id="66" idx="2"/>
          </p:cNvCxnSpPr>
          <p:nvPr/>
        </p:nvCxnSpPr>
        <p:spPr>
          <a:xfrm>
            <a:off x="4500720" y="4897440"/>
            <a:ext cx="19440" cy="4960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AutoShape 7"/>
          <p:cNvSpPr/>
          <p:nvPr/>
        </p:nvSpPr>
        <p:spPr>
          <a:xfrm>
            <a:off x="2879640" y="5400720"/>
            <a:ext cx="3311640" cy="1295280"/>
          </a:xfrm>
          <a:prstGeom prst="pie">
            <a:avLst/>
          </a:prstGeom>
          <a:solidFill>
            <a:srgbClr val="cfe7f5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Esta norma debe s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aplicada en los servici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donde se atiende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pacientes.</a:t>
            </a:r>
            <a:r>
              <a:rPr b="0" lang="es-EC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1"/>
          <p:cNvSpPr/>
          <p:nvPr/>
        </p:nvSpPr>
        <p:spPr>
          <a:xfrm>
            <a:off x="3024360" y="539640"/>
            <a:ext cx="2734920" cy="720720"/>
          </a:xfrm>
          <a:prstGeom prst="octagon">
            <a:avLst>
              <a:gd name="adj" fmla="val 23148"/>
            </a:avLst>
          </a:prstGeom>
          <a:solidFill>
            <a:srgbClr val="729fcf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RESPONSABILIDAD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AutoShape 2"/>
          <p:cNvSpPr/>
          <p:nvPr/>
        </p:nvSpPr>
        <p:spPr>
          <a:xfrm>
            <a:off x="936720" y="1908000"/>
            <a:ext cx="3095640" cy="1008360"/>
          </a:xfrm>
          <a:custGeom>
            <a:avLst/>
            <a:gdLst>
              <a:gd name="textAreaLeft" fmla="*/ 118800 w 3095640"/>
              <a:gd name="textAreaRight" fmla="*/ 2976840 w 3095640"/>
              <a:gd name="textAreaTop" fmla="*/ 118800 h 1008360"/>
              <a:gd name="textAreaBottom" fmla="*/ 889560 h 1008360"/>
            </a:gdLst>
            <a:ahLst/>
            <a:rect l="textAreaLeft" t="textAreaTop" r="textAreaRight" b="textAreaBottom"/>
            <a:pathLst>
              <a:path w="662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2696" y="21600"/>
                </a:lnTo>
                <a:arcTo wR="3600" hR="3600" stAng="10800000" swAng="5400000"/>
                <a:lnTo>
                  <a:pt x="66296" y="3600"/>
                </a:lnTo>
                <a:arcTo wR="3600" hR="3600" stAng="5400000" swAng="5400000"/>
                <a:close/>
              </a:path>
            </a:pathLst>
          </a:custGeom>
          <a:solidFill>
            <a:srgbClr val="cfe7f5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Cumplir P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4535640" y="1871640"/>
            <a:ext cx="3384360" cy="1079640"/>
          </a:xfrm>
          <a:custGeom>
            <a:avLst/>
            <a:gdLst>
              <a:gd name="textAreaLeft" fmla="*/ 127080 w 3384360"/>
              <a:gd name="textAreaRight" fmla="*/ 3257280 w 3384360"/>
              <a:gd name="textAreaTop" fmla="*/ 127080 h 1079640"/>
              <a:gd name="textAreaBottom" fmla="*/ 952560 h 1079640"/>
            </a:gdLst>
            <a:ahLst/>
            <a:rect l="textAreaLeft" t="textAreaTop" r="textAreaRight" b="textAreaBottom"/>
            <a:pathLst>
              <a:path w="676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4094" y="21600"/>
                </a:lnTo>
                <a:arcTo wR="3600" hR="3600" stAng="10800000" swAng="5400000"/>
                <a:lnTo>
                  <a:pt x="67694" y="3600"/>
                </a:lnTo>
                <a:arcTo wR="3600" hR="3600" stAng="5400000" swAng="5400000"/>
                <a:close/>
              </a:path>
            </a:pathLst>
          </a:custGeom>
          <a:solidFill>
            <a:srgbClr val="cfe7f5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Supervisar el Cumplimient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del P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5075280" y="3887640"/>
            <a:ext cx="2340000" cy="2160720"/>
          </a:xfrm>
          <a:prstGeom prst="verticalScroll">
            <a:avLst>
              <a:gd name="adj" fmla="val 12500"/>
            </a:avLst>
          </a:prstGeom>
          <a:solidFill>
            <a:srgbClr val="cfe7f5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Médico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nfermera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Farmacéutico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684360" y="3132000"/>
            <a:ext cx="4140000" cy="3600720"/>
          </a:xfrm>
          <a:prstGeom prst="horizontalScroll">
            <a:avLst>
              <a:gd name="adj" fmla="val 12500"/>
            </a:avLst>
          </a:prstGeom>
          <a:solidFill>
            <a:srgbClr val="cfe7f5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8956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69400"/>
                <a:tab algn="l" pos="9418680"/>
                <a:tab algn="l" pos="986796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Todo  el personal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8956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69400"/>
                <a:tab algn="l" pos="9418680"/>
                <a:tab algn="l" pos="986796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25400" indent="-268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8956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69400"/>
                <a:tab algn="l" pos="9418680"/>
                <a:tab algn="l" pos="986796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Que brinde atención en salu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25400" indent="-268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8956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69400"/>
                <a:tab algn="l" pos="9418680"/>
                <a:tab algn="l" pos="986796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Antes de dispensa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25400" indent="-268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8956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69400"/>
                <a:tab algn="l" pos="9418680"/>
                <a:tab algn="l" pos="986796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Que participe en  preparar y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25400" indent="-268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8956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69400"/>
                <a:tab algn="l" pos="9418680"/>
                <a:tab algn="l" pos="986796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Administrar lo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25400" indent="-268200" algn="just">
              <a:lnSpc>
                <a:spcPct val="100000"/>
              </a:lnSpc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8956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69400"/>
                <a:tab algn="l" pos="9418680"/>
                <a:tab algn="l" pos="986796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edicamento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4" name="AutoShape 6"/>
          <p:cNvCxnSpPr>
            <a:stCxn id="69" idx="2"/>
            <a:endCxn id="70" idx="0"/>
          </p:cNvCxnSpPr>
          <p:nvPr/>
        </p:nvCxnSpPr>
        <p:spPr>
          <a:xfrm flipH="1">
            <a:off x="1441080" y="1260000"/>
            <a:ext cx="1944000" cy="6483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7"/>
          <p:cNvCxnSpPr>
            <a:stCxn id="69" idx="2"/>
            <a:endCxn id="71" idx="0"/>
          </p:cNvCxnSpPr>
          <p:nvPr/>
        </p:nvCxnSpPr>
        <p:spPr>
          <a:xfrm>
            <a:off x="3384720" y="1260360"/>
            <a:ext cx="1691280" cy="6120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Line 8"/>
          <p:cNvSpPr/>
          <p:nvPr/>
        </p:nvSpPr>
        <p:spPr>
          <a:xfrm>
            <a:off x="2448000" y="2916360"/>
            <a:ext cx="1440" cy="6825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Line 9"/>
          <p:cNvSpPr/>
          <p:nvPr/>
        </p:nvSpPr>
        <p:spPr>
          <a:xfrm>
            <a:off x="6335640" y="2951280"/>
            <a:ext cx="1800" cy="936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971640" y="1092240"/>
            <a:ext cx="32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ff3333"/>
                </a:solidFill>
                <a:latin typeface="Calibri"/>
              </a:rPr>
              <a:t>OBJETIVOS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749160" y="1943280"/>
            <a:ext cx="76028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09520" indent="-209520" algn="just">
              <a:buSzPct val="102837"/>
              <a:buBlip>
                <a:blip r:embed="rId2"/>
              </a:buBlip>
              <a:tabLst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Mejorar la seguridad de los medicamentos de alto riesgo y electrolitos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09520" indent="-209520" algn="just">
              <a:buClr>
                <a:srgbClr val="ffffff"/>
              </a:buClr>
              <a:buFont typeface="Arial"/>
              <a:buChar char="•"/>
              <a:tabLst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Concentrados garantizando la seguridad del pacient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09520" indent="-209520" algn="just">
              <a:buSzPct val="102837"/>
              <a:buBlip>
                <a:blip r:embed="rId3"/>
              </a:buBlip>
              <a:tabLst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Establecer y difundir una relación con los medicamentos de alto ries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09520" indent="-209520" algn="just">
              <a:buClr>
                <a:srgbClr val="ffffff"/>
              </a:buClr>
              <a:buFont typeface="Arial"/>
              <a:buChar char="•"/>
              <a:tabLst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disponibles en la institución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09520" indent="-209520" algn="just">
              <a:buSzPct val="102837"/>
              <a:buBlip>
                <a:blip r:embed="rId4"/>
              </a:buBlip>
              <a:tabLst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Estandarizar su prescripción, almacenamiento, preparación y administración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09520" indent="-209520" algn="just">
              <a:buSzPct val="102837"/>
              <a:buBlip>
                <a:blip r:embed="rId5"/>
              </a:buBlip>
              <a:tabLst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Limitar el número de presentaciones y concentraciones disponibles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09520" indent="-209520" algn="just">
              <a:tabLst>
                <a:tab algn="l" pos="0"/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particularmente electrolitos concentrados, heparina, morfina, insulina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09520" indent="-209520" algn="just">
              <a:buSzPct val="102837"/>
              <a:buBlip>
                <a:blip r:embed="rId6"/>
              </a:buBlip>
              <a:tabLst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Implementar prácticas de doble chequeo en la preparación y administració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09520" indent="-209520" algn="just">
              <a:tabLst>
                <a:tab algn="l" pos="0"/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de estos medicamento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152360" y="165564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2448000" y="1800360"/>
            <a:ext cx="3600360" cy="647640"/>
          </a:xfrm>
          <a:prstGeom prst="flowChartPreparation">
            <a:avLst/>
          </a:prstGeom>
          <a:solidFill>
            <a:srgbClr val="729fcf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DEFINICION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1368360" y="3024360"/>
            <a:ext cx="2303640" cy="86328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MEDICAMENTOS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DE ALTO RIESG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5472000" y="3024360"/>
            <a:ext cx="2303640" cy="86328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ELECTROLIT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152360" y="743040"/>
            <a:ext cx="32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ff3333"/>
                </a:solidFill>
                <a:latin typeface="Calibri"/>
              </a:rPr>
              <a:t> </a:t>
            </a:r>
            <a:r>
              <a:rPr b="0" lang="es-EC" sz="1800" spc="-1" strike="noStrike">
                <a:solidFill>
                  <a:srgbClr val="ff3333"/>
                </a:solidFill>
                <a:latin typeface="Calibri"/>
              </a:rPr>
              <a:t>DEFINICIONES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92280" y="498600"/>
            <a:ext cx="760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152360" y="165564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Line 7"/>
          <p:cNvSpPr/>
          <p:nvPr/>
        </p:nvSpPr>
        <p:spPr>
          <a:xfrm flipH="1">
            <a:off x="2440080" y="2519280"/>
            <a:ext cx="1744560" cy="432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35640" y="2519280"/>
            <a:ext cx="1655640" cy="432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863640" y="4435560"/>
            <a:ext cx="3384360" cy="231768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Aquellos que cuando se utilizan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Incorrectamente presentan may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probabilidad de causar daño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graves o incluso mortale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4896000" y="4435560"/>
            <a:ext cx="3456000" cy="230328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Son minerales presentes e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la sangre y otros líquid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corporales que llevan un carg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eléctrica. Abarcan calcio, sodi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cloruro, magnesio, fósforo, potasio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pueden ser ácidos, bases y sale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2"/>
          <a:stretch/>
        </p:blipFill>
        <p:spPr>
          <a:xfrm>
            <a:off x="2073240" y="3832200"/>
            <a:ext cx="809640" cy="695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"/>
          <p:cNvPicPr/>
          <p:nvPr/>
        </p:nvPicPr>
        <p:blipFill>
          <a:blip r:embed="rId3"/>
          <a:stretch/>
        </p:blipFill>
        <p:spPr>
          <a:xfrm>
            <a:off x="6191280" y="3841920"/>
            <a:ext cx="809640" cy="69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2303640" y="431640"/>
            <a:ext cx="4608360" cy="792360"/>
          </a:xfrm>
          <a:prstGeom prst="downArrowCallout">
            <a:avLst>
              <a:gd name="adj1" fmla="val 145413"/>
              <a:gd name="adj2" fmla="val 145400"/>
              <a:gd name="adj3" fmla="val 16667"/>
              <a:gd name="adj4" fmla="val 66667"/>
            </a:avLst>
          </a:prstGeom>
          <a:solidFill>
            <a:srgbClr val="cfe7f5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strategias en la implementación del P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2"/>
          <p:cNvSpPr/>
          <p:nvPr/>
        </p:nvSpPr>
        <p:spPr>
          <a:xfrm>
            <a:off x="360360" y="1655640"/>
            <a:ext cx="8640720" cy="66672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Las soluciones concentradas de electrolitos se tratarán como sustancias controladas,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Incluyendo los requisitos que  restringen la orden y las condiciones de almacenamiento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360360" y="2519280"/>
            <a:ext cx="8640720" cy="503280"/>
          </a:xfrm>
          <a:prstGeom prst="roundRect">
            <a:avLst>
              <a:gd name="adj" fmla="val 22338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Se eliminará la soluciones concentradas de electrolitos de todas las unidades  d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enfermería y almacenarán  únicamente en  farmacia  y coches de emergencia  bajo llav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360360" y="3213000"/>
            <a:ext cx="8640720" cy="115272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Las soluciones concentradas de electrolitos deben ser etiquetados en form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individual con una etiqueta fosforescente visible que diga </a:t>
            </a:r>
            <a:r>
              <a:rPr b="0" i="1" lang="es-EC" sz="1600" spc="-1" strike="noStrike">
                <a:solidFill>
                  <a:srgbClr val="000000"/>
                </a:solidFill>
                <a:latin typeface="Calibri"/>
              </a:rPr>
              <a:t>“DEBE SER DILUID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558880" y="4680000"/>
            <a:ext cx="3632400" cy="1603440"/>
          </a:xfrm>
          <a:prstGeom prst="rect">
            <a:avLst/>
          </a:prstGeom>
          <a:solidFill>
            <a:srgbClr val="2323dc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160720" y="4608360"/>
            <a:ext cx="4895640" cy="1944720"/>
          </a:xfrm>
          <a:prstGeom prst="rect">
            <a:avLst/>
          </a:prstGeom>
          <a:solidFill>
            <a:srgbClr val="2323dc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448000" y="4751280"/>
            <a:ext cx="2303280" cy="15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ffffff"/>
                </a:solidFill>
                <a:latin typeface="Times New Roman"/>
                <a:ea typeface="DejaVu Sans;MS Mincho"/>
              </a:rPr>
              <a:t>HOSPITAL PROVINCIAL PUY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ffffff"/>
                </a:solidFill>
                <a:latin typeface="Times New Roman"/>
                <a:ea typeface="DejaVu Sans;MS Mincho"/>
              </a:rPr>
              <a:t>DEBE SER DILUID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ffffff"/>
                </a:solidFill>
                <a:latin typeface="Times New Roman"/>
                <a:ea typeface="DejaVu Sans;MS Mincho"/>
              </a:rPr>
              <a:t>NOMBRE MEDICAMENTO Y CONCENTRACION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ffffff"/>
                </a:solidFill>
                <a:latin typeface="Times New Roman"/>
                <a:ea typeface="DejaVu Sans;MS Mincho"/>
              </a:rPr>
              <a:t>FORMA FARMACEÚTIC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5256360" y="4680000"/>
            <a:ext cx="151128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1"/>
          <p:cNvSpPr/>
          <p:nvPr/>
        </p:nvSpPr>
        <p:spPr>
          <a:xfrm>
            <a:off x="144360" y="1152360"/>
            <a:ext cx="8783640" cy="107964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La preparación farmacéutica de las soluciones debe ser realizada únicamente  por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ersonas  capacitadas y calificadas( médico, enfermera, técnico farmacéutico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144360" y="2519280"/>
            <a:ext cx="8783640" cy="115272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Luego de la preparación debe realizarse una verificación independiente por parte d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una segunda persona capacitada y calificada para lo cual se establece  un  listado  d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verificación cuyos puntos a considerar son  cálculos de concentración, velocidades d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la bomba de infusión,  y las conexiones adecuadas de la vía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144360" y="4032360"/>
            <a:ext cx="8783640" cy="50328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Se colocará una etiqueta que diga CUIDADO-ALTO RIESGO a la solución preparada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antes de  su administración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160720" y="4896000"/>
            <a:ext cx="4392360" cy="1511280"/>
          </a:xfrm>
          <a:prstGeom prst="rect">
            <a:avLst/>
          </a:prstGeom>
          <a:solidFill>
            <a:srgbClr val="3deb3d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2303640" y="4967280"/>
            <a:ext cx="1693800" cy="1368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4281480" y="4967280"/>
            <a:ext cx="2055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1100" spc="-1" strike="noStrike">
                <a:solidFill>
                  <a:srgbClr val="000000"/>
                </a:solidFill>
                <a:latin typeface="Times New Roman"/>
                <a:ea typeface="DejaVu Sans;MS Mincho"/>
              </a:rPr>
              <a:t>HOSPITAL PROVINCIAL PUYO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1100" spc="-1" strike="noStrike">
                <a:solidFill>
                  <a:srgbClr val="000000"/>
                </a:solidFill>
                <a:latin typeface="Times New Roman"/>
                <a:ea typeface="DejaVu Sans;MS Mincho"/>
              </a:rPr>
              <a:t>CUIDADO ALTO RIESGO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1100" spc="-1" strike="noStrike">
                <a:solidFill>
                  <a:srgbClr val="000000"/>
                </a:solidFill>
                <a:latin typeface="Times New Roman"/>
                <a:ea typeface="DejaVu Sans;MS Mincho"/>
              </a:rPr>
              <a:t>NOMBRE MEDICAMENTO Y CONCENTRACION: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1100" spc="-1" strike="noStrike">
                <a:solidFill>
                  <a:srgbClr val="000000"/>
                </a:solidFill>
                <a:latin typeface="Times New Roman"/>
                <a:ea typeface="DejaVu Sans;MS Mincho"/>
              </a:rPr>
              <a:t>FORMA FARMACEÚTICA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1"/>
          <p:cNvSpPr/>
          <p:nvPr/>
        </p:nvSpPr>
        <p:spPr>
          <a:xfrm>
            <a:off x="287280" y="863640"/>
            <a:ext cx="8640720" cy="107964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Se utilizará bomba de infusión para administrar soluciones concentradas, si no hubiera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una  bomba de infusión disponible, podrá tenerse en cuenta el uso de otros dispositivos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de infusión, como un equipo buretrol para administración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360360" y="2232000"/>
            <a:ext cx="8567640" cy="72072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Las órdenes de los  médicos  deben incluir la velocidad de infusión de estas soluciones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360360" y="3384720"/>
            <a:ext cx="8496360" cy="100800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Los contenedores también se etiquetarán con el nombre y el color designado por el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tipo de electrolito y otra etiqueta que diga “</a:t>
            </a:r>
            <a:r>
              <a:rPr b="0" i="1" lang="es-EC" sz="1500" spc="-1" strike="noStrike">
                <a:solidFill>
                  <a:srgbClr val="000000"/>
                </a:solidFill>
                <a:latin typeface="Calibri"/>
              </a:rPr>
              <a:t>CUIDADO ALTO RIESGO”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360360" y="4940280"/>
            <a:ext cx="8496360" cy="86508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Cuando estén indicados estos medicamentos se verificará que se trate del paciente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correcto fármaco correcto, vía correcta, dosis correcta, y horario correcto antes durant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la preparación y administración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15:11:22Z</dcterms:created>
  <dc:creator>Administrador administrador</dc:creator>
  <dc:description/>
  <dc:language>en-US</dc:language>
  <cp:lastModifiedBy>Epidemiologia Calidad</cp:lastModifiedBy>
  <dcterms:modified xsi:type="dcterms:W3CDTF">2015-08-03T23:47:02Z</dcterms:modified>
  <cp:revision>40</cp:revision>
  <dc:subject/>
  <dc:title>Presentación de PowerPoint</dc:title>
</cp:coreProperties>
</file>