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9.jpeg" ContentType="image/jpeg"/>
  <Override PartName="/ppt/media/image1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CEBA-C9A6-44A4-A99D-2E4075F21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E359-EF14-4825-87D5-9763E2500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6756-50A5-4852-A21B-58B87A2DF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9F75-BBBE-43D2-8A48-D23BD7681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0D5B-AE73-4137-86FA-1E2ECBF29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E1CD-F5C7-4368-AA33-3246852D9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128A-E20A-40F5-9546-D5E8EC348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678C-271B-4CE1-89F0-8B47F84B4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C8F7-5FE5-47A3-8F70-C4196B27B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3E55-DC4D-4118-8CFE-AC10AD51A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175F-07C6-4F8B-8ED1-8EBFAF64B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25D6-C917-4BF6-BCE3-2BA31BF7F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242F-A04C-40E2-A4FF-37FBB1023D6E}" type="slidenum">
              <a:rPr b="0" lang="es-E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57280" y="2511360"/>
            <a:ext cx="739296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RACTICA ORGANIZACIONAL REQUERIDA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SPITAL GENERAL PUYO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IEMBRE  2014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73120" y="898560"/>
            <a:ext cx="7191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derazgo: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de la organizació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respecto a la seguridad­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535640" y="2016000"/>
            <a:ext cx="345600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73120" y="898560"/>
            <a:ext cx="7191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ervisión Adecuada: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59280" y="187164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824360" y="4103640"/>
            <a:ext cx="360036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60360" y="4103640"/>
            <a:ext cx="395928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76360" y="1511280"/>
            <a:ext cx="8064360" cy="1368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0360" y="969840"/>
            <a:ext cx="8062920" cy="65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FINIC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ento Adverso (E.A 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sión o daño no intencional causado al paciente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a intervención asistencial, más no por la patología de base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.A. No Prevenible                                  E.A. Preven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sión o daño no intencional               Lesión o daño no intencion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usado al paciente por la inter-             causado al paciente por la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ión asistencial sin error                  intervención asistencial con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ror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376360" y="316872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Line 6"/>
          <p:cNvSpPr/>
          <p:nvPr/>
        </p:nvSpPr>
        <p:spPr>
          <a:xfrm>
            <a:off x="6624720" y="316872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040360" y="1152360"/>
            <a:ext cx="3672000" cy="427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3120" y="1152360"/>
            <a:ext cx="3962520" cy="427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73120" y="898560"/>
            <a:ext cx="78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vento  Centinela                            Casi Ev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 entiende como tal a un                  Se refiere a un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uceso inesperado que                  situación que podrí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roduce la muerte o serias               haber producido 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cuelas físicas ó                      accidente o lesión 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sicológicas                              paciente, pero n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ocurri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1511280" y="1800360"/>
            <a:ext cx="612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EVENTOS ADVERS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FRECUENT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295280" y="682560"/>
            <a:ext cx="66963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95280" y="936720"/>
            <a:ext cx="6551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368360" y="100800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152360" y="936720"/>
            <a:ext cx="66247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295280" y="93672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557280" y="2511360"/>
            <a:ext cx="739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0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8712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079640" y="1008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rcRect l="0" t="0" r="0" b="17352"/>
          <a:stretch/>
        </p:blipFill>
        <p:spPr>
          <a:xfrm>
            <a:off x="1081080" y="86364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936720" y="936720"/>
            <a:ext cx="684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68360" y="2592360"/>
            <a:ext cx="6551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EVENTOS ADVERSOS POR MEDICAMENT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79640" y="682560"/>
            <a:ext cx="676728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624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152360" y="2087640"/>
            <a:ext cx="69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5400" spc="-1" strike="noStrike">
                <a:solidFill>
                  <a:srgbClr val="0047ff"/>
                </a:solidFill>
                <a:latin typeface="Calibri"/>
              </a:rPr>
              <a:t>PREVENCI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76764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36720" y="1152360"/>
            <a:ext cx="6696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557280" y="2511360"/>
            <a:ext cx="739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0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31640" y="144360"/>
            <a:ext cx="849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008000" y="863640"/>
            <a:ext cx="691200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008000" y="1079640"/>
            <a:ext cx="7056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008000" y="936720"/>
            <a:ext cx="691200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88960" y="4751280"/>
            <a:ext cx="7978680" cy="115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680000" y="2952720"/>
            <a:ext cx="324000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88960" y="2952720"/>
            <a:ext cx="315432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4800" y="1368360"/>
            <a:ext cx="774720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88960" y="946080"/>
            <a:ext cx="762480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4% de los pacientes sufre algun tipo de daño durante su ingreso hospitala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De los que el 86%                     El 14% acabó e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rovocó daño                           muerte para e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temporal                                     pacien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 estima que entre 44.000 a 98.000 personas mueren cada año en los hospitales como resultado de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829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>
            <a:off x="2160720" y="1295280"/>
            <a:ext cx="4824360" cy="4638960"/>
          </a:xfrm>
          <a:prstGeom prst="flowChartExtra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92000" y="682560"/>
            <a:ext cx="8064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PIRAMIDE DE HEINRI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1                    Evento Adverso Grave </a:t>
            </a: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30                             Evento Adverso Le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300                                           Casi Event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024360" y="4248000"/>
            <a:ext cx="30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3743280" y="2808360"/>
            <a:ext cx="16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588960" y="946080"/>
            <a:ext cx="7624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"/>
              </a:rPr>
              <a:t>Contribuir a la seguridad de la atención sanitaria mediante la implementación de un sistema de vigilancia y reporte de eventos adversos, eventos centinela y cuasi eventos potencialmente preve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"/>
          <p:cNvSpPr/>
          <p:nvPr/>
        </p:nvSpPr>
        <p:spPr>
          <a:xfrm>
            <a:off x="1440000" y="4464000"/>
            <a:ext cx="5688000" cy="1655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Oval 2"/>
          <p:cNvSpPr/>
          <p:nvPr/>
        </p:nvSpPr>
        <p:spPr>
          <a:xfrm>
            <a:off x="1224000" y="1368360"/>
            <a:ext cx="6264360" cy="2519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88960" y="946080"/>
            <a:ext cx="762480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Se estima que aproximadament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el 95% de todos los evento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adversos no se documentan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C" sz="3200" spc="-1" strike="noStrike">
                <a:solidFill>
                  <a:srgbClr val="000000"/>
                </a:solidFill>
                <a:latin typeface="Arial"/>
              </a:rPr>
              <a:t>QUEDAN OCULT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88960" y="946080"/>
            <a:ext cx="7624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16000" y="503280"/>
            <a:ext cx="864072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62040" y="2664000"/>
            <a:ext cx="2938320" cy="20142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notificación depende no sólo de la concienc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l error, sino también de la buena volunta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ara documentarl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88960" y="946080"/>
            <a:ext cx="7624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88960" y="692280"/>
            <a:ext cx="78343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600" spc="-1" strike="noStrike">
                <a:solidFill>
                  <a:srgbClr val="000000"/>
                </a:solidFill>
                <a:latin typeface="Calibri"/>
              </a:rPr>
              <a:t>FACTORES QUE INCIDEN EN LA NOTIFICAC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887640" y="35654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6"/>
          <p:cNvSpPr/>
          <p:nvPr/>
        </p:nvSpPr>
        <p:spPr>
          <a:xfrm flipH="1">
            <a:off x="3879360" y="3852720"/>
            <a:ext cx="885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11640" y="2592360"/>
            <a:ext cx="2938680" cy="201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ntender la notificación del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evento como una oportunidad para mejorar la seguridad y no como un mecanismo de culpabiliz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588960" y="946080"/>
            <a:ext cx="7624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8960" y="682560"/>
            <a:ext cx="783432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287280" y="1079640"/>
            <a:ext cx="4032360" cy="46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824360" y="1079640"/>
            <a:ext cx="388800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573120" y="898560"/>
            <a:ext cx="7191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alteraciones que afectan a las personas en forma directa, a la economía, a los sistemas sociales y al medio ambi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estar originados por causas naturales, por intervención humana o por combinación de amb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547640" y="404640"/>
            <a:ext cx="6048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600" spc="-1" strike="noStrike">
                <a:solidFill>
                  <a:srgbClr val="000000"/>
                </a:solidFill>
                <a:latin typeface="Calibri"/>
              </a:rPr>
              <a:t>BARRERAS IDENTIFICADAS EN LA NOTIFICAC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26920" y="1407960"/>
            <a:ext cx="2160720" cy="1079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conciencia de que un error ha ocurri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64000" y="1413000"/>
            <a:ext cx="2411640" cy="107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conciencia que se debe documentar y por qué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2987640" y="2637000"/>
            <a:ext cx="2448000" cy="115236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emor a las denunci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55640" y="3983040"/>
            <a:ext cx="251928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sconocimiento de los mecanismos de notific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979960" y="4005360"/>
            <a:ext cx="2376720" cy="107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No hay tiempo para document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2627280" y="5084640"/>
            <a:ext cx="3527280" cy="144000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“feedback” cuando se produce un regist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2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2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576360" y="2087640"/>
            <a:ext cx="7920000" cy="395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36720" y="2735280"/>
            <a:ext cx="7127640" cy="3024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60360" y="3456000"/>
            <a:ext cx="6551640" cy="1944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84360" y="792000"/>
            <a:ext cx="777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SISTEMA DE REGISTR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ltura de Segur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fraestructura de Segur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atos          Información           Conocimiento          Aprendizaje </a:t>
            </a:r>
            <a:r>
              <a:rPr b="0" lang="es-EC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5472000" y="478800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059280" y="478800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763640" y="405756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3238560" y="40561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861080" y="4054320"/>
            <a:ext cx="431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368360" y="4464000"/>
            <a:ext cx="16560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istema de notificac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600360" y="4464000"/>
            <a:ext cx="16560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mpartir la inform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6048360" y="4464000"/>
            <a:ext cx="165564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solver problem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1511280" y="4967280"/>
            <a:ext cx="223200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295280" y="2808360"/>
            <a:ext cx="266400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TROALIMENTAC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ersonal de Salud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Registro de: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. Adversos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. Centinela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asi Event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Gestión de l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alida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FORM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448000" y="2303640"/>
            <a:ext cx="42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696000" y="230364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448000" y="439272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3743280" y="5400720"/>
            <a:ext cx="295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6696000" y="4167360"/>
            <a:ext cx="1800" cy="12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448000" y="230364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800360" y="1008000"/>
            <a:ext cx="547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NOTIFICAC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184720" y="3166920"/>
            <a:ext cx="2879640" cy="936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mite Institucional de la Cal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936720" y="936720"/>
            <a:ext cx="3384360" cy="475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5184720" y="936720"/>
            <a:ext cx="3168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008000" y="792000"/>
            <a:ext cx="7344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0000" y="503280"/>
            <a:ext cx="56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DEPENDENCIA DEL SISTEMA DE REGISTR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287280" y="1440000"/>
            <a:ext cx="3095640" cy="1655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nocimiento del personal de salud para identificar un evento advers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879640" y="3311640"/>
            <a:ext cx="2735280" cy="122400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xperiencias previ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5400720" y="4535640"/>
            <a:ext cx="3168720" cy="1223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Una cultura no punitiva (sanción) cuando se identifica un err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1"/>
          <p:cNvSpPr/>
          <p:nvPr/>
        </p:nvSpPr>
        <p:spPr>
          <a:xfrm>
            <a:off x="2376360" y="3311640"/>
            <a:ext cx="4248360" cy="2519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Oval 2"/>
          <p:cNvSpPr/>
          <p:nvPr/>
        </p:nvSpPr>
        <p:spPr>
          <a:xfrm>
            <a:off x="2519280" y="1295280"/>
            <a:ext cx="3672000" cy="1871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47640" y="360360"/>
            <a:ext cx="748836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PROPOSI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mover y desarroll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 conocimiento y l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ltura de seguridad de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aciente en el hospit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ablecer sistema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ormadores para 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comunicación de l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ventos advers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lacionados con l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eguridad del pacient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3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3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3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3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3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3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3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30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30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30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368360" y="576360"/>
            <a:ext cx="626436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FIN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Fortalecer la detección de eventos adverso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para identificar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oportunidades para l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mejora 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de la calidad técnico - asistencial en 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proceso de atención de salu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368360" y="576360"/>
            <a:ext cx="6264360" cy="10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upongamos a un recién nacido con un cuadro 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compatibilidad de grupo sanguíneo, que gener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una ictericia y durante la hospitalización sufre un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adro de kernícteru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 cuadro clínico es claramente consecuencia de su patología de base; pero un kernícterus intrahospi 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alario, por definición,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es un evento adverso.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 responsabilidad de la atención en salud modificar el curso natural de la enfermedad. De eso se trata 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tención en salud, ¿no?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i no se le hizo un seguimiento adecuado a este neonato o no hubo una intervención oportuna (p.e. una exanguíneo transfusión), ¿qué sentido tiene la atención en salud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368360" y="576360"/>
            <a:ext cx="6264360" cy="9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Un cirujano que se contamina en el acto quirúrgico con la sangre de un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paciente VIH positiv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Ciertamente, es una situación catastrófica, pero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no hace parte de un evento adverso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Se trata de un accidente de trabajo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 que tiene un manejo en la prevención, atención y control específico y diferente al del manejo de eventos adversos en el ámbito de la seguridad del pacient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73120" y="898560"/>
            <a:ext cx="719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Humanos: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tio de profesional-pacientes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rnos, fatiga, capacitació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759280" y="417672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5543640" y="180036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1295280" y="4248000"/>
            <a:ext cx="3024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68360" y="576360"/>
            <a:ext cx="6264360" cy="10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GURIDAD CLINI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conjunto de elementos estructurales, procesos, Instrumentos y metodologías, basadas en evidencia científica probada, que buscan minimizar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esgo de sufrir un evento adver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proceso de Atención de Salud o de mitigar sus consecuenc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368360" y="576360"/>
            <a:ext cx="62643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2"/>
          <a:srcRect l="26053" t="14006" r="23300" b="10989"/>
          <a:stretch/>
        </p:blipFill>
        <p:spPr>
          <a:xfrm>
            <a:off x="709560" y="236520"/>
            <a:ext cx="774072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762120" y="2828880"/>
            <a:ext cx="7711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“</a:t>
            </a: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El único hombre que no se equivoca es el que nunca hace nada.”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                                                        </a:t>
            </a: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Goe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762120" y="2828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47ff"/>
                </a:solidFill>
                <a:latin typeface="Arial"/>
              </a:rPr>
              <a:t>GRACIAS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73120" y="898560"/>
            <a:ext cx="7191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del Proceso: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os fallos d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ferentes pasos de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248000" y="1782720"/>
            <a:ext cx="424836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73120" y="898560"/>
            <a:ext cx="7191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amient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imiento: preventivo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nuo y reactivo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35640" y="1800360"/>
            <a:ext cx="4032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73120" y="898560"/>
            <a:ext cx="7191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Ambientales: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ido, espacio, mobilia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751280" y="187164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73120" y="898560"/>
            <a:ext cx="7191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ión de la Información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unicación intra y extr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543640" y="4248000"/>
            <a:ext cx="29527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111640" y="1584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1079640" y="439272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5:11:22Z</dcterms:created>
  <dc:creator>Administrador administrador</dc:creator>
  <dc:description/>
  <dc:language>en-US</dc:language>
  <cp:lastModifiedBy>Epidemiologia Calidad</cp:lastModifiedBy>
  <dcterms:modified xsi:type="dcterms:W3CDTF">2015-08-03T20:36:45Z</dcterms:modified>
  <cp:revision>36</cp:revision>
  <dc:subject/>
  <dc:title>Presentación de PowerPoint</dc:title>
</cp:coreProperties>
</file>